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45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44.jpeg" ContentType="image/jpeg"/>
  <Override PartName="/ppt/media/image4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13.wmf" ContentType="image/x-wmf"/>
  <Override PartName="/ppt/media/image27.jpeg" ContentType="image/jpe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69EA-943C-4975-A8A1-C9DB5B15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029-299A-4DEA-A200-C7EDD0B5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BAF-E07E-4E2F-A662-CE1504C5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75F-B5F4-4965-BFA1-B93F57A8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402E-DEBE-427E-B620-15226C25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D6B2-F88D-495B-ACA1-C2067ABB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209D-7899-411A-89B2-A1ABACF6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97F0-8018-47C1-87B4-E8F768A9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F755-50FD-42E0-A618-B8603AD5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7714-3B5B-4D47-BD07-F1061FFA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BB92-C521-48BB-8E0D-A29604EF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5C2-5A69-4A8A-9732-0A5C8F29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EDDC-4EF7-4A44-B712-52313DCE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E7CC-35F4-43D7-A5EF-761C3B12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7EFF-59ED-4AC2-BA80-053497D0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EC04-2D53-401C-9D02-81B2D7D6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4C3F-94B7-492A-AC4C-F359873D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A46-7A35-48AF-A26F-CCBD1A9B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E52-2BFD-477A-9385-C7482F13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B9A-EDFA-4048-AB5C-A3F76649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0D2-44C1-4E64-98FC-C70C6C86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7386-9716-4890-9E8E-A1417488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BD3-CDC2-48E3-87A1-9BAA3F82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D65-585E-40A6-9B8F-201B8826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D150-AC0C-4A4D-A267-8B9FAE502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9506-846D-4427-809A-C47335F3D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62320" y="44197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Nguyeãn Phöôùc Baûo Quaâ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dd3e"/>
                </a:solidFill>
                <a:latin typeface="VNI-WIN Sample Font"/>
                <a:ea typeface="SimSun"/>
              </a:rPr>
              <a:t>1.</a:t>
            </a:r>
            <a:r>
              <a:rPr b="0" lang="en-US" sz="3200" spc="-1" strike="noStrike">
                <a:solidFill>
                  <a:srgbClr val="f2dd3e"/>
                </a:solidFill>
                <a:latin typeface="VNI-WIN Sample Font"/>
                <a:ea typeface="SimSun"/>
              </a:rPr>
              <a:t>CHAÅN ÑOAÙN SÔÙM</a:t>
            </a:r>
            <a:r>
              <a:rPr b="0" i="1" lang="en-US" sz="3200" spc="-1" strike="noStrike">
                <a:solidFill>
                  <a:srgbClr val="f2dd3e"/>
                </a:solidFill>
                <a:latin typeface="VNI-WIN Sample Font"/>
                <a:ea typeface="SimSun"/>
              </a:rPr>
              <a:t> :  (amylase/m taêng sau 12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dd3e"/>
                </a:solidFill>
                <a:latin typeface="VNI-WIN Sample Font"/>
                <a:ea typeface="SimSun"/>
              </a:rPr>
              <a:t>Chuïp buïng khoâng chuaån bò  (+/_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Hình “quai ruoät gaù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Hình ñoaïn ñaïi traøng giaõ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Hình boùng saùng trong vuøng tuï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Hình môø do dòch oå buïng , dòch sau PM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Hình môø do TDM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805_2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603_2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77120" cy="4162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Kyõ thuaät khaùm SAÂ /VTC - </a:t>
            </a:r>
            <a:r>
              <a:rPr b="0" i="1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haïn cheá kyõ thuaät do chöôùng hôi cuûa caùc quai ruoät </a:t>
            </a:r>
            <a:r>
              <a:rPr b="0" i="1" lang="en-US" sz="2800" spc="-1" strike="noStrike">
                <a:solidFill>
                  <a:srgbClr val="ffff66"/>
                </a:solidFill>
                <a:latin typeface="SimSun"/>
                <a:ea typeface="SimSun"/>
              </a:rPr>
              <a:t>→ </a:t>
            </a:r>
            <a:r>
              <a:rPr b="0" i="1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choï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Kyõ thuaät khaù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Caùc maët caét cô baû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mc ngang-cheách thöôïng vò (+/-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mc doïc(+/-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mc vaønh (+++)-khoâng leä thuoäc vaøo chöôùng hô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mc söôøn-löng (++) - n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Tö theá beänh nhaân (++) –ngoài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Bieåu hieän / S.AÂ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(1) Caùc bieán ñoåi taïi tuïy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(2) Caùc bieåu hieän cuûa dòch xuaát tie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3047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(1) Hình aûnh SA cuûa  Tuïy /V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Gia taêng kích thöôùc tuï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Lan toõa (coøn giöõ hình daïng tuïy hoaëc khoâng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Khu truù   </a:t>
            </a:r>
            <a:r>
              <a:rPr b="0" lang="en-US" sz="2800" spc="-1" strike="noStrike">
                <a:solidFill>
                  <a:srgbClr val="ffffff"/>
                </a:solidFill>
                <a:latin typeface="SimSun"/>
                <a:ea typeface="SimSun"/>
              </a:rPr>
              <a:t>→</a:t>
            </a:r>
            <a:r>
              <a:rPr b="0" lang="en-US" sz="2800" spc="-1" strike="noStrike">
                <a:solidFill>
                  <a:srgbClr val="ffff66"/>
                </a:solidFill>
                <a:latin typeface="SimSun"/>
                <a:ea typeface="SimSun"/>
              </a:rPr>
              <a:t> </a:t>
            </a:r>
            <a:r>
              <a:rPr b="0" i="1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khaûo saùt toaøn boä tuï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5562720" cy="4167000"/>
          </a:xfrm>
          <a:prstGeom prst="rect">
            <a:avLst/>
          </a:prstGeom>
          <a:ln w="28440">
            <a:solidFill>
              <a:srgbClr val="ff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858000" cy="4626000"/>
          </a:xfrm>
          <a:prstGeom prst="rect">
            <a:avLst/>
          </a:prstGeom>
          <a:ln w="28440">
            <a:solidFill>
              <a:srgbClr val="ff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3429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Hình aûnh SA cuûa tuïy/  V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Bieán ñoåi ñöôøng bôø tuïy :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nhaït nhoøa do vieâm moâ tb môõ trong nhu moâ vaø moâ môõ quanh tuï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5486400" cy="41911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5181840" cy="34956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304920" y="990720"/>
            <a:ext cx="4647960" cy="3724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Hình aûnh SA cuûa tuï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Bieán ñoåi caáu truùc / aâm hoï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 Ñoä hoài aâ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 Ñoä huùt aâm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 Maãu hoài aâ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167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</a:rPr>
              <a:t>I. ÑN VIEÂM TUÏY CAÁP: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laø quaù trình vieâm caá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+Phoùng thích men tuï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+Töï hoaïi töû moâ tuî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Hình aûnh SA cuûa tuïy/ V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Bieán ñoåi ñoä hoài aâm</a:t>
            </a: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(</a:t>
            </a:r>
            <a:r>
              <a:rPr b="0" i="1" lang="en-US" sz="2400" spc="-1" strike="noStrike">
                <a:solidFill>
                  <a:srgbClr val="ffff66"/>
                </a:solidFill>
                <a:latin typeface="VNI-WIN Sample Font"/>
                <a:ea typeface="SimSun"/>
              </a:rPr>
              <a:t>bt: xoang thaän &gt; tuïy   &gt; laùch&gt;gan&gt; voõ thaän&gt; tuûy thaän</a:t>
            </a: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Taêng haâ (46%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Giaûm ha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4038480" cy="308160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3886200" cy="292716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Hình aûnh SA cuûa tuïy/ V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Bieán ñoåi maãu hoài aâ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 VTC theå phuø neà : coøn töông ñoái ñoàng ïnhaá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 VTC theå HT : khoâng coøn ñoàng ïnhaát - oå taêng h.aâ do xh, oå giaûm h.aâ do hoaïi töû dòch hoa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Tình traïng HT lan ñeán moâ môõ quanh tuïy – taêng /giaûm h.aâ khoâng ñoàng nhaát quanh tuï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095880" cy="491184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3388680" y="6070680"/>
            <a:ext cx="24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NI-WIN Sample Font"/>
              </a:rPr>
              <a:t>VTC theå phuø neà</a:t>
            </a:r>
            <a:r>
              <a:rPr b="0" lang="en-US" sz="1800" spc="-1" strike="noStrike">
                <a:solidFill>
                  <a:srgbClr val="ffffff"/>
                </a:solidFill>
                <a:latin typeface="VNI-WIN Sample Fo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191120" cy="337644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069920" y="4952880"/>
            <a:ext cx="24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NI-WIN Sample Font"/>
              </a:rPr>
              <a:t>VTC theå hoaïi tö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952880" y="2666880"/>
            <a:ext cx="4191120" cy="337680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5751000" y="6172200"/>
            <a:ext cx="24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NI-WIN Sample Font"/>
              </a:rPr>
              <a:t>VTC theå phuø neà</a:t>
            </a:r>
            <a:r>
              <a:rPr b="0" lang="en-US" sz="1800" spc="-1" strike="noStrike">
                <a:solidFill>
                  <a:srgbClr val="ffffff"/>
                </a:solidFill>
                <a:latin typeface="VNI-WIN Sample Fo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095880" cy="491148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3378240" y="60958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NI-WIN Sample Font"/>
              </a:rPr>
              <a:t>VTC theå hoaïi tö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12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Hình aûnh SA cuûa tuïy/ V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Bieán ñoåi do heä quûa cuûa phuø neà tuïy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 Giaõn oáng tuï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 Giaõn oáng maä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 Cheøn IVC töø phía tröôùc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705720" cy="54021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823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(2) Hình aûnh SA cuûa VTC-Dòch xuaát tieá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Vò trí : quanh tuïy, khoang SPM, ngaùch töï nhieân trong KPM, khoang HCMN, khoang MP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Ñaëc bieät : vieâm ôû ñuoâi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dòch xuaát tieát ôû hoá laùch, khoang CTTT traùi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Haû s.aâ : lôùp dòch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oå ñoïng dòch giaûm h.aâ/ roãng h.aâ khoâng coù voõ boïc, lan toûa trong caùc lôùp moâ  vaø </a:t>
            </a:r>
            <a:r>
              <a:rPr b="0" i="1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töông phaûn vôùi taêng haâ cuûa moâ môõ coù phaûn öùng vieâm . </a:t>
            </a:r>
            <a:r>
              <a:rPr b="0" i="1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Thôøi gian : &lt; 6tuaàn</a:t>
            </a:r>
            <a:r>
              <a:rPr b="0" i="1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427200" cy="419076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05360" cy="54021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r>
              <a:rPr b="1" lang="en-US" sz="4400" spc="-1" strike="noStrike">
                <a:solidFill>
                  <a:srgbClr val="ffffb7"/>
                </a:solidFill>
                <a:latin typeface="VNI-WIN Sample Font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3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</a:rPr>
              <a:t>II. BEÄNH NGUYEÂN VIEÂM TUÏY CAÁP (V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-Giun chui oáng tuïy-maä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-Soûi maä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-Röôï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-Sang chaá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-Thuoác : Azathioprime, furosemide, Teùtracycline , cimetidin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-Beänh lyù chuyeån hoaù : taêng lipid/m, taêng hoaït phoù giaùp …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805_1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10280" cy="45050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Vai troø cuûa caùc phöông tieän CÑ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i="1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Chaån ñoaùn sôùm VTC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</a:t>
            </a: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Xaùc ñònh beänh nguyeân .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Xaùc ñònh bieán chöùng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Ñaùnh giaù möùc ñoä thöông toån </a:t>
            </a:r>
            <a:r>
              <a:rPr b="0" lang="en-US" sz="3200" spc="-1" strike="noStrike">
                <a:solidFill>
                  <a:srgbClr val="ffffb7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giuùp tieân löôïng beän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Giuùp theo doõi qua ñieàu trò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Höôùng daãn can thieä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</a:rPr>
              <a:t>2.XAÙC ÑÒNH BEÄNH NGUYEÂN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-Muïc ñòch : giuùp ñònh höôùng ñieàu tr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-Moät soá beänh ng thöôøng gaëp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+Giun chui oáng tuïy –maä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+Soûi ñöôøng maä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+Sang chaán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8880" y="-360"/>
            <a:ext cx="838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43000" y="1333440"/>
            <a:ext cx="6477120" cy="52182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476760" cy="521820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805_3" descr=""/>
          <p:cNvPicPr/>
          <p:nvPr/>
        </p:nvPicPr>
        <p:blipFill>
          <a:blip r:embed="rId1"/>
          <a:stretch/>
        </p:blipFill>
        <p:spPr>
          <a:xfrm>
            <a:off x="3962520" y="3527280"/>
            <a:ext cx="5181480" cy="33307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178" name="805_1" descr=""/>
          <p:cNvPicPr/>
          <p:nvPr/>
        </p:nvPicPr>
        <p:blipFill>
          <a:blip r:embed="rId2"/>
          <a:stretch/>
        </p:blipFill>
        <p:spPr>
          <a:xfrm>
            <a:off x="0" y="1066680"/>
            <a:ext cx="4800600" cy="30862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5029200" y="12952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Times"/>
              </a:rPr>
              <a:t>CLVT : NE, CE   (+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334120" cy="396576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805_6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2134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953240" cy="393048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952880" cy="4030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</a:rPr>
              <a:t>III.GIAÛI PHAÃU  BEÄNH CUÛA V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VNI-WIN Sample 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VTC theå phuø neà ( theå nheï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+Vieâm moâ teá baø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+Giaõn maïch, sung huyeá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VNI-WIN Sample 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VTC theå hoaïi töû , xuaát huyeá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+OÅ hoaïi töû cuûa moâ tuïy, môõ, ñaûo tb tuï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+Thöông toån thaønh maïch</a:t>
            </a:r>
            <a:r>
              <a:rPr b="0" lang="en-US" sz="3200" spc="-1" strike="noStrike">
                <a:solidFill>
                  <a:srgbClr val="ffffb7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xuaát huyeá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+Thöông toån oáng tuïy </a:t>
            </a:r>
            <a:r>
              <a:rPr b="0" lang="en-US" sz="3200" spc="-1" strike="noStrike">
                <a:solidFill>
                  <a:srgbClr val="ffffb7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traøn dòch tuïy ra ngoaøi  </a:t>
            </a:r>
            <a:r>
              <a:rPr b="0" lang="en-US" sz="3200" spc="-1" strike="noStrike">
                <a:solidFill>
                  <a:srgbClr val="ffffb7"/>
                </a:solidFill>
                <a:latin typeface="SimSun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Vai troø cuûa caùc phöông tieän CÑ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i="1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Chaån ñoaùn sôùm VTC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Xaùc ñònh beänh nguyeân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</a:t>
            </a: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Xaùc ñònh bieán chöùng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Ñaùnh giaù möùc ñoä thöông toån </a:t>
            </a:r>
            <a:r>
              <a:rPr b="0" lang="en-US" sz="3200" spc="-1" strike="noStrike">
                <a:solidFill>
                  <a:srgbClr val="ffffb7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giuùp tieân löôïng beän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Giuùp theo doõi qua ñieàu trò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Höôùng daãn can thieä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12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3.BIEÁN CHÖÙNG CUÛA V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Nang giaû tuïy (NGT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Aùp xe tuïy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Hoaïi töû tuïy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Bieán chöùng maïch maù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+B/c treân ñoäng maï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+B/c treân tónh maïch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12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BIEÁN CHÖÙNG CUÛA V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Nang giaû tuïy (NGT ):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hình thaønh töø dòch x.t </a:t>
            </a: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sau tuaàn thöù 4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do “thaønh giaû” taïo neân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Vò trí :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baát kyø , nhieàu nhaát laø quanh tuïy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Haû saâ: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caáu truùc daïng nang coù voû daøy/moûng , dòch beân trong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roãng h.aâ, giaûm h.aâ, laéng ñoïng,vaùch hoaù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Tieán trieån :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50% töï haáp thu, 50% coøn laïi (voû daøy, ñk &gt; 6cm , coù theå gaây tr/ch) .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38080" y="2517840"/>
            <a:ext cx="3927600" cy="296388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927240" cy="294480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705360" cy="540216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876920" cy="392904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648320" cy="348768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419720" cy="334656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927600" cy="349560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952880" cy="421776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6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BIEÁN CHÖÙNG CUÛA VTC-AÙPXE TUÏ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Aùp xe tuïy: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do boäi nhieãm cuûa oå hoaïi töû tuïy ñöôïc khu truù laïi ; xuaát hieän töø </a:t>
            </a:r>
            <a:r>
              <a:rPr b="0" i="1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tuaàn 3-4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 LS : tr/ch nt-nñ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↗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 Haû saâ: caáu truùc daïng nang, giôùi haïn roõ, voû , beân trong haâ lôïn côïn, laéng ñoïng, hôi (++)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hieän töôïng boùng löng saùng (ñuoâi sao choåi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00800" cy="526752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022560" cy="4775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8880" y="-36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914400" y="1143000"/>
            <a:ext cx="7848720" cy="492588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BIEÁN CHÖÙNG CUÛA V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Hoaïi töû tuïy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HT nhu moâ tuï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HT moâ môõ xung quan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HT moâ tuïy + moâ xung quan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Haû saâ : caáu truùc tuïy khoâng ñoàng nhaát, oå taêng haâ. HT töû </a:t>
            </a:r>
            <a:r>
              <a:rPr b="0" lang="en-US" sz="2800" spc="-1" strike="noStrike">
                <a:solidFill>
                  <a:srgbClr val="ffffff"/>
                </a:solidFill>
                <a:latin typeface="SimSun"/>
                <a:ea typeface="SimSun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moâ môõ xung quanh phuø neà, daøy vaø taêng h.aâ , keøm dòch : hình aûnh khoâng ñoàng nhaát 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540252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BIEÁN CHÖÙNG CUÛA V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Bieán chöùng maïch maù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B/c treân ñoäng maïch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giaû phình maïch, vôõ phình maïch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Haû saâ : tuùi daïng nang , doøng chaûy xoaùy beân trong / taêng 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S.AÂ  Doppler (+++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343400" cy="308448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917960" y="2128680"/>
            <a:ext cx="3927600" cy="374364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BIEÁN CHÖÙNG CUÛA V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Bieán chöùng maïch maù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B/c treân tónh maïch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VNI-Times"/>
                <a:ea typeface="SimSun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eøn eùp loøng maïch →haû s.aâ: heïp loøng m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. Thuyeân taéc maïch →haû s.aâ: khoái taïo hoài aâm trong loøng maïch / TML (+++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. Nhoài maùu laùch →haû saâ: vuøng giaûm h.aâ hình cheâm ñaùy ngoaïi vi … hoaù seïo taêng h.aâ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546444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80060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Vai troø cuûa caùc phöông tieän CÑ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Chaån ñoaùn sôùm VTC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Xaùc ñònh beänh nguyeân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Xaùc ñònh bieán chöùng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</a:t>
            </a: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Ñaùnh giaù möùc ñoä thöông toån </a:t>
            </a:r>
            <a:r>
              <a:rPr b="0" i="1" lang="en-US" sz="3200" spc="-1" strike="noStrike">
                <a:solidFill>
                  <a:srgbClr val="ffff00"/>
                </a:solidFill>
                <a:latin typeface="SimSun"/>
                <a:ea typeface="SimSun"/>
              </a:rPr>
              <a:t>→</a:t>
            </a: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giuùp tieân löôïng beän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-Giuùp theo doõi qua ñieàu trò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Höôùng daãn can thieä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808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</a:rPr>
              <a:t>4. ÑAÙNH GIAÙ MÖÙC ÑOÄ TRAÀM TROÏNG-&gt;  TIEÂN LÖÔÏNG VAØ ÑIEÀU TR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+Baûng ñieåm LS cuûa RANS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+Baûng phaân loaïi möùc ñoä thöông toån cuûa BALTHAZAR  vaø RANSON/ hình 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.Nhoùm A : tuïy gaàn bình thöôø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.Nhoùm B : tuïy lôùn, bôø khg ñeàu, oáng tuïy giaõ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.Nhoùm C : nt + vieâm taáy moâ môõ quanh tuï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.NhoùmD  : nt + oå tuï dòch quanh tuï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.Nhoùm E : nt + nhieàu oå tuï dò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248520" cy="383544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Vai troø cuûa caùc phöông tieän CÑ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i="1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Chaån ñoaùn sôùm VTC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Xaùc ñònh beänh nguyeân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Xaùc ñònh bieán chöùng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Ñaùnh giaù möùc ñoä thöông toån </a:t>
            </a:r>
            <a:r>
              <a:rPr b="0" lang="en-US" sz="3200" spc="-1" strike="noStrike">
                <a:solidFill>
                  <a:srgbClr val="ffffb7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giuùp tieân löôïng beän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Giuùp theo doõi qua ñieàu trò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-Höôùng daãn can thieäp ñieàu tr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NI-WIN Sample Font"/>
              </a:rPr>
              <a:t>5. HÖÔÙNG DAÃN GIUÙP CHAÅN ÑOAÙN VAØ CAN THIEÄP ÑIEÀU TR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VNI-WIN Sample Font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+ Laáy maãu giuùp chaån ñoaù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.Laáy maãu sinh thieát qua da döôùi höôùng daãn S.AÂ, 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.Laáy maãu maùu qua ñöôøng noäi maïc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+ Can thieäp ñieàu trò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.Kyõ thuaät : choïc huùt , daãn löu  . Chæ ñònh: nang giaû, aùp x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.Kyõ thuaät: can thieäp maïch .Chæ ñònh : nuùt taéc giaû phình maïch, laøm tan huyeát khoái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-1778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chung.hemat.drana0002" descr=""/>
          <p:cNvPicPr/>
          <p:nvPr/>
        </p:nvPicPr>
        <p:blipFill>
          <a:blip r:embed="rId1"/>
          <a:stretch/>
        </p:blipFill>
        <p:spPr>
          <a:xfrm>
            <a:off x="0" y="838080"/>
            <a:ext cx="3429000" cy="25704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238" name="chung.hemat.drana0004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3581280" cy="26863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239" name="chung.hemat.drana0005" descr=""/>
          <p:cNvPicPr/>
          <p:nvPr/>
        </p:nvPicPr>
        <p:blipFill>
          <a:blip r:embed="rId3"/>
          <a:stretch/>
        </p:blipFill>
        <p:spPr>
          <a:xfrm>
            <a:off x="5638680" y="4229280"/>
            <a:ext cx="3505320" cy="26287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0"/>
            <a:ext cx="838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ng%20lien.%20dl%20pseudocys0001" descr=""/>
          <p:cNvPicPr/>
          <p:nvPr/>
        </p:nvPicPr>
        <p:blipFill>
          <a:blip r:embed="rId1"/>
          <a:stretch/>
        </p:blipFill>
        <p:spPr>
          <a:xfrm>
            <a:off x="0" y="838080"/>
            <a:ext cx="3398760" cy="25495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242" name="ng%20lien.%20dl%20pseudocys0004" descr=""/>
          <p:cNvPicPr/>
          <p:nvPr/>
        </p:nvPicPr>
        <p:blipFill>
          <a:blip r:embed="rId2"/>
          <a:stretch/>
        </p:blipFill>
        <p:spPr>
          <a:xfrm>
            <a:off x="2971800" y="1219320"/>
            <a:ext cx="3429000" cy="25714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243" name="ng%20t%20lien0003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3200400" cy="24001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244" name="ng%20t%20lien0006" descr=""/>
          <p:cNvPicPr/>
          <p:nvPr/>
        </p:nvPicPr>
        <p:blipFill>
          <a:blip r:embed="rId4"/>
          <a:stretch/>
        </p:blipFill>
        <p:spPr>
          <a:xfrm>
            <a:off x="4343400" y="3505320"/>
            <a:ext cx="3475080" cy="26064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245" name="ng%20t%20lien0013" descr=""/>
          <p:cNvPicPr/>
          <p:nvPr/>
        </p:nvPicPr>
        <p:blipFill>
          <a:blip r:embed="rId5"/>
          <a:stretch/>
        </p:blipFill>
        <p:spPr>
          <a:xfrm>
            <a:off x="1219320" y="4114800"/>
            <a:ext cx="3475080" cy="26067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927240" cy="3608640"/>
          </a:xfrm>
          <a:prstGeom prst="rect">
            <a:avLst/>
          </a:prstGeom>
          <a:ln w="19080">
            <a:solidFill>
              <a:srgbClr val="ff7c8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3913200" cy="4190760"/>
          </a:xfrm>
          <a:prstGeom prst="rect">
            <a:avLst/>
          </a:prstGeom>
          <a:ln w="1908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3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</a:rPr>
              <a:t>IV.LAÂM SAØNG &amp; CLS–V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-Côn ñau buïng caáp:thöôïng vò , cheách T, lan ra sau lö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VNI-WIN Sample 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Noân möû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VNI-WIN Sample 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Soá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VNI-WIN Sample 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CT Baïch caàu   thay ñoå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VNI-WIN Sample 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Men Amylase /m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↗( &gt; 20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giôø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SimSun"/>
                <a:ea typeface="SimSun"/>
              </a:rPr>
              <a:t>→ </a:t>
            </a: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vai troø cuûa caùc phöông tieän CÑ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V.CAÙC PHÖÔNG TIEÄN CÑ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Chuïp buïng khoâng chuaån bò (-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d3e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2dd3e"/>
                </a:solidFill>
                <a:latin typeface="VNI-WIN Sample Font"/>
                <a:ea typeface="SimSun"/>
              </a:rPr>
              <a:t>-Sieâu aâm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(+++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Chuïp caét lôùp vi tính (+++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Chuïp coäng höôûng töø (+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Chuïp maïch (+/-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Chuïp oáng tuïy maät qua noäi soi (+/-)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Vai troø cuûa caùc phöông tieän CÑ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i="1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</a:t>
            </a: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Chaån ñoaùn sôùm VTC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Xaùc ñònh beänh nguyeân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Xaùc ñònh bieán chöùng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Ñaùnh giaù möùc ñoä thöông toån </a:t>
            </a:r>
            <a:r>
              <a:rPr b="0" lang="en-US" sz="3200" spc="-1" strike="noStrike">
                <a:solidFill>
                  <a:srgbClr val="ffffb7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giuùp tieân löôïng beän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Giuùp theo doõi qua ñieàu trò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Höôùng daãn can thieä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3:56:23Z</dcterms:created>
  <dc:creator>USER</dc:creator>
  <dc:description/>
  <dc:language>en-US</dc:language>
  <cp:lastModifiedBy>Nguyen Phuoc Bao Quan</cp:lastModifiedBy>
  <dcterms:modified xsi:type="dcterms:W3CDTF">2007-01-12T07:16:27Z</dcterms:modified>
  <cp:revision>22</cp:revision>
  <dc:subject/>
  <dc:title>VIEÂM TUÏY CAÁP </dc:title>
</cp:coreProperties>
</file>