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45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13.wmf" ContentType="image/x-wmf"/>
  <Override PartName="/ppt/media/image27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571-9BF3-4DDB-A2A4-E4BB680C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93B-8120-46D9-8A4C-AC4A53E6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213-4AAB-4861-A101-041D666C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216-297C-43D6-BD6D-9F81CB2F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421C-4E8A-47CE-A42E-082ADE56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D2B6-8460-405B-9922-E9AEFDED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CA72-681F-421C-A1FE-40BBFAC9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71BA-6445-4D3A-A326-4B50FF1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2C25-5158-4DAE-9E29-B9CF3D0B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90BD-854A-44B4-8CF1-68CBFA72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6189-CE79-4305-8B6D-F42ED5E2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E9F-AB20-4E82-97E7-16D1C091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D967-F761-4E6A-AF97-3C717E43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F758-340D-4D81-A28E-3F185783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EAD9-385E-4D47-9B7F-17EC1C5D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6A9C-5D06-4EAC-9B94-11A3A37A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15FC-BDBB-493C-B714-3CA6477C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8FF-3595-4709-8113-4145FDCF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275-0837-4CCF-8051-246C89C3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9FF-FECF-4B81-910F-EC0936F4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58B-E58C-42F5-B59D-3CFCDC6E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2B8-1075-4925-9877-7C3CD013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E73-3FBD-4418-9E65-9015171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ECD-4FEC-4C05-81A4-5ABD39E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1A86-EA08-4C1E-BA2A-ACC031C54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CEE4-0AF7-4C3D-B21D-AD7302706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362320" y="4419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Times"/>
              </a:rPr>
              <a:t>Nguyeãn Phöôùc Baûo Quaâ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1.</a:t>
            </a:r>
            <a:r>
              <a:rPr b="0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CHAÅN ÑOAÙN SÔÙM</a:t>
            </a:r>
            <a:r>
              <a:rPr b="0" i="1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 :  (amylase/m taêng sau 12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Chuïp buïng khoâng chuaån bò  (+/_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“quai ruoät gaù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ñoaïn ñaïi traøng giaõ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boùng saùng trong vuøng tuï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môø do dòch oå buïng , dòch sau PM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ình môø do TDM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805_2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603_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162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Kyõ thuaät khaùm SAÂ /VTC - </a:t>
            </a:r>
            <a:r>
              <a:rPr b="0" i="1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aïn cheá kyõ thuaät do chöôùng hôi cuûa caùc quai ruoät </a:t>
            </a:r>
            <a:r>
              <a:rPr b="0" i="1" lang="en-US" sz="2800" spc="-1" strike="noStrike">
                <a:solidFill>
                  <a:srgbClr val="ffff66"/>
                </a:solidFill>
                <a:latin typeface="SimSun"/>
                <a:ea typeface="SimSun"/>
              </a:rPr>
              <a:t>→ </a:t>
            </a:r>
            <a:r>
              <a:rPr b="0" i="1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choï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Kyõ thuaät khaù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Caùc maët caét cô baû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mc ngang-cheách thöôïng vò (+/-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mc doïc(+/-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mc vaønh (+++)-khoâng leä thuoäc vaøo chöôùng hô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mc söôøn-löng (++) - n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Tö theá beänh nhaân (++) –ngoài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Bieåu hieän / S.AÂ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1) Caùc bieán ñoåi taïi tuïy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2) Caùc bieåu hieän cuûa dòch xuaát tie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3047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1) Hình aûnh SA cuûa  Tuïy /V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Gia taêng kích thöôùc tuï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Lan toõa (coøn giöõ hình daïng tuïy hoaëc khoâng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Khu truù   </a:t>
            </a:r>
            <a:r>
              <a:rPr b="0" lang="en-US" sz="28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2800" spc="-1" strike="noStrike">
                <a:solidFill>
                  <a:srgbClr val="ffff66"/>
                </a:solidFill>
                <a:latin typeface="SimSun"/>
                <a:ea typeface="SimSun"/>
              </a:rPr>
              <a:t> </a:t>
            </a:r>
            <a:r>
              <a:rPr b="0" i="1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khaûo saùt toaøn boä tuï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562720" cy="4167000"/>
          </a:xfrm>
          <a:prstGeom prst="rect">
            <a:avLst/>
          </a:prstGeom>
          <a:ln w="2844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858000" cy="4626000"/>
          </a:xfrm>
          <a:prstGeom prst="rect">
            <a:avLst/>
          </a:prstGeom>
          <a:ln w="2844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/  V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ñoåi ñöôøng bôø tuïy :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nhaït nhoøa do vieâm moâ tb môõ trong nhu moâ vaø moâ môõ quanh tuï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5486400" cy="41911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5181840" cy="34956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04920" y="990720"/>
            <a:ext cx="4647960" cy="3724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ñoåi caáu truùc / aâm hoï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Ñoä hoài aâ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Ñoä huùt aâm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Maãu hoài aâ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16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I. ÑN VIEÂM TUÏY CAÁP: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laø quaù trình vieâm caá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Phoùng thích men tuï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Töï hoaïi töû moâ tuî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/ V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Bieán ñoåi ñoä hoài aâm</a:t>
            </a: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</a:t>
            </a:r>
            <a:r>
              <a:rPr b="0" i="1" lang="en-US" sz="24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t: xoang thaän &gt; tuïy   &gt; laùch&gt;gan&gt; voõ thaän&gt; tuûy thaän</a:t>
            </a: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Taêng haâ (46%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Giaûm ha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308160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3886200" cy="29271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/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ñoåi maãu hoài aâ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VTC theå phuø neà : coøn töông ñoái ñoàng ïnha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VTC theå HT : khoâng coøn ñoàng ïnhaát - oå taêng h.aâ do xh, oå giaûm h.aâ do hoaïi töû dòch hoa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Tình traïng HT lan ñeán moâ môõ quanh tuïy – taêng /giaûm h.aâ khoâng ñoàng nhaát quanh tuï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95880" cy="491184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3388680" y="607068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NI-WIN Sample Font"/>
              </a:rPr>
              <a:t>VTC theå phuø neà</a:t>
            </a:r>
            <a:r>
              <a:rPr b="0" lang="en-US" sz="1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91120" cy="337644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069920" y="495288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NI-WIN Sample Font"/>
              </a:rPr>
              <a:t>VTC theå hoaïi tö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4191120" cy="337680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5751000" y="617220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NI-WIN Sample Font"/>
              </a:rPr>
              <a:t>VTC theå phuø neà</a:t>
            </a:r>
            <a:r>
              <a:rPr b="0" lang="en-US" sz="1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095880" cy="491148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378240" y="60958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NI-WIN Sample Font"/>
              </a:rPr>
              <a:t>VTC theå hoaïi tö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12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Hình aûnh SA cuûa tuïy/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ñoåi do heä quûa cuûa phuø neà tuïy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Giaõn oáng tuï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Giaõn oáng maä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 Cheøn IVC töø phía tröôù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05720" cy="54021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823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(2) Hình aûnh SA cuûa VTC-Dòch xuaát tie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Vò trí : quanh tuïy, khoang SPM, ngaùch töï nhieân trong KPM, khoang HCMN, khoang MP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Ñaëc bieät : vieâm ôû ñuoâi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dòch xuaát tieát ôû hoá laùch, khoang CTTT traùi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aû s.aâ : lôùp dòch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oå ñoïng dòch giaûm h.aâ/ roãng h.aâ khoâng coù voõ boïc, lan toûa trong caùc lôùp moâ  vaø </a:t>
            </a: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töông phaûn vôùi taêng haâ cuûa moâ môõ coù phaûn öùng vieâm . </a:t>
            </a:r>
            <a:r>
              <a:rPr b="0" i="1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Thôøi gian : &lt; 6tuaàn</a:t>
            </a: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427200" cy="41907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05360" cy="54021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r>
              <a:rPr b="1" lang="en-US" sz="4400" spc="-1" strike="noStrike">
                <a:solidFill>
                  <a:srgbClr val="ffffb7"/>
                </a:solidFill>
                <a:latin typeface="VNI-WIN Sample Font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3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II. BEÄNH NGUYEÂN VIEÂM TUÏY CAÁP (V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Giun chui oáng tuïy-maä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Soûi maä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Röôï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Sang chaá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Thuoác : Azathioprime, furosemide, Teùtracycline , cimetidin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-Beänh lyù chuyeån hoaù : taêng lipid/m, taêng hoaït phoù giaùp …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805_1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10280" cy="45050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Xaùc ñònh beänh nguyeân .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Ñaùnh giaù möùc ñoä thöông toån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Giuùp theo doõi qua ñieàu tr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Höôùng daãn can thieä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2.XAÙC ÑÒNH BEÄNH NGUYEÂN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-Muïc ñòch : giuùp ñònh höôùng ñieàu tr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-Moät soá beänh ng thöôøng gaëp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Giun chui oáng tuïy –maä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Soûi ñöôøng maä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+Sang chaán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8880" y="-360"/>
            <a:ext cx="8385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43000" y="1333440"/>
            <a:ext cx="6477120" cy="52182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76760" cy="521820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805_3" descr=""/>
          <p:cNvPicPr/>
          <p:nvPr/>
        </p:nvPicPr>
        <p:blipFill>
          <a:blip r:embed="rId1"/>
          <a:stretch/>
        </p:blipFill>
        <p:spPr>
          <a:xfrm>
            <a:off x="3962520" y="3527280"/>
            <a:ext cx="5181480" cy="3330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178" name="805_1" descr=""/>
          <p:cNvPicPr/>
          <p:nvPr/>
        </p:nvPicPr>
        <p:blipFill>
          <a:blip r:embed="rId2"/>
          <a:stretch/>
        </p:blipFill>
        <p:spPr>
          <a:xfrm>
            <a:off x="0" y="1066680"/>
            <a:ext cx="4800600" cy="30862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5029200" y="1295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Times"/>
              </a:rPr>
              <a:t>CLVT : NE, CE   (+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34120" cy="39657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805_6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134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953240" cy="393048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952880" cy="4030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III.GIAÛI PHAÃU  BEÄNH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VTC theå phuø neà ( theå nheï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Vieâm moâ teá baø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Giaõn maïch, sung huye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VTC theå hoaïi töû , xuaát huyeá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OÅ hoaïi töû cuûa moâ tuïy, môõ, ñaûo tb tuï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Thöông toån thaønh maïch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xuaát huye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 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</a:rPr>
              <a:t>+Thöông toån oáng tuïy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traøn dòch tuïy ra ngoaøi 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eänh nguyeâ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Ñaùnh giaù möùc ñoä thöông toån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Giuùp theo doõi qua ñieàu tr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Höôùng daãn can thieä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12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3.BIEÁN CHÖÙNG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Nang giaû tuïy (NGT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Aùp xe tuïy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Hoaïi töû tuïy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chöùng maïch maù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+B/c treân ñoäng maï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+B/c treân tónh maïch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12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Nang giaû tuïy (NGT ):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hình thaønh töø dòch x.t </a:t>
            </a: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sau tuaàn thöù 4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do “thaønh giaû” taïo neân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Vò trí :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baát kyø , nhieàu nhaát laø quanh tuïy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Haû saâ: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caáu truùc daïng nang coù voû daøy/moûng , dòch beân trong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roãng h.aâ, giaûm h.aâ, laéng ñoïng,vaùch hoaù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Tieán trieån :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50% töï haáp thu, 50% coøn laïi (voû daøy, ñk &gt; 6cm , coù theå gaây tr/ch) .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38080" y="2517840"/>
            <a:ext cx="3927600" cy="296388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927240" cy="294480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705360" cy="54021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876920" cy="392904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648320" cy="348768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19720" cy="33465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927600" cy="349560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952880" cy="421776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6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-AÙPXE TUÏ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Aùp xe tuïy: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do boäi nhieãm cuûa oå hoaïi töû tuïy ñöôïc khu truù laïi ; xuaát hieän töø </a:t>
            </a: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tuaàn 3-4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LS : tr/ch nt-nñ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↗</a:t>
            </a: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 Haû saâ: caáu truùc daïng nang, giôùi haïn roõ, voû , beân trong haâ lôïn côïn, laéng ñoïng, hôi (++)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hieän töôïng boùng löng saùng (ñuoâi sao choå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526752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022560" cy="4775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8880" y="-36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914400" y="1143000"/>
            <a:ext cx="7848720" cy="492588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Hoaïi töû tuïy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HT nhu moâ tuï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HT moâ môõ xung quan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HT moâ tuïy + moâ xung quan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aû saâ : caáu truùc tuïy khoâng ñoàng nhaát, oå taêng haâ. HT töû </a:t>
            </a:r>
            <a:r>
              <a:rPr b="0" lang="en-US" sz="28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  <a:ea typeface="SimSun"/>
              </a:rPr>
              <a:t>moâ môõ xung quanh phuø neà, daøy vaø taêng h.aâ , keøm dòch : hình aûnh khoâng ñoàng nhaát 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40252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chöùng maïch maù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B/c treân ñoäng maïch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giaû phình maïch, vôõ phình maïc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Haû saâ : tuùi daïng nang , doøng chaûy xoaùy beân trong / taêng 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S.AÂ  Doppler (+++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343400" cy="308448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917960" y="2128680"/>
            <a:ext cx="3927600" cy="374364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BIEÁN CHÖÙNG CUÛA 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-Bieán chöùng maïch maù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+B/c treân tónh maïch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VNI-Times"/>
                <a:ea typeface="SimSun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eøn eùp loøng maïch →haû s.aâ: heïp loøng m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. Thuyeân taéc maïch →haû s.aâ: khoái taïo hoài aâm trong loøng maïch / TML (++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. Nhoài maùu laùch →haû saâ: vuøng giaûm h.aâ hình cheâm ñaùy ngoaïi vi … hoaù seïo taêng h.aâ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546444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80060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Xaùc ñònh beänh nguyeâ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Ñaùnh giaù möùc ñoä thöông toån </a:t>
            </a:r>
            <a:r>
              <a:rPr b="0" i="1" lang="en-US" sz="3200" spc="-1" strike="noStrike">
                <a:solidFill>
                  <a:srgbClr val="ffff00"/>
                </a:solidFill>
                <a:latin typeface="SimSun"/>
                <a:ea typeface="SimSun"/>
              </a:rPr>
              <a:t>→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-Giuùp theo doõi qua ñieàu trò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-Höôùng daãn can thieä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808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</a:rPr>
              <a:t>4. ÑAÙNH GIAÙ MÖÙC ÑOÄ TRAÀM TROÏNG-&gt;  TIEÂN LÖÔÏNG VAØ ÑIEÀU TR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NI-WIN Sample Fon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+Baûng ñieåm LS cuûa RAN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+Baûng phaân loaïi möùc ñoä thöông toån cuûa BALTHAZAR  vaø RANSON/ hình 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 A : tuïy gaàn bình thöôø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 B : tuïy lôùn, bôø khg ñeàu, oáng tuïy giaõ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 C : nt + vieâm taáy moâ môõ quanh tuï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D  : nt + oå tuï dòch quanh tuï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NI-WIN Sample Font"/>
              </a:rPr>
              <a:t>.Nhoùm E : nt + nhieàu oå tuï dò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248520" cy="383544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eänh nguyeâ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Ñaùnh giaù möùc ñoä thöông toån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Giuùp theo doõi qua ñieàu tr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-Höôùng daãn can thieäp ñieàu tr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NI-WIN Sample Font"/>
              </a:rPr>
              <a:t>5. HÖÔÙNG DAÃN GIUÙP CHAÅN ÑOAÙN VAØ CAN THIEÄP ÑIEÀU TR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VNI-WIN Sample Fon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+ Laáy maãu giuùp chaån ñoaù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.Laáy maãu sinh thieát qua da döôùi höôùng daãn S.AÂ, 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.Laáy maãu maùu qua ñöôøng noäi maïc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+ Can thieäp ñieàu trò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.Kyõ thuaät : choïc huùt , daãn löu  . Chæ ñònh: nang giaû, aùp x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VNI-WIN Sample Font"/>
              </a:rPr>
              <a:t>.Kyõ thuaät: can thieäp maïch .Chæ ñònh : nuùt taéc giaû phình maïch, laøm tan huyeát khoái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-1778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chung.hemat.drana0002" descr=""/>
          <p:cNvPicPr/>
          <p:nvPr/>
        </p:nvPicPr>
        <p:blipFill>
          <a:blip r:embed="rId1"/>
          <a:stretch/>
        </p:blipFill>
        <p:spPr>
          <a:xfrm>
            <a:off x="0" y="838080"/>
            <a:ext cx="3429000" cy="25704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38" name="chung.hemat.drana0004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3581280" cy="26863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39" name="chung.hemat.drana0005" descr=""/>
          <p:cNvPicPr/>
          <p:nvPr/>
        </p:nvPicPr>
        <p:blipFill>
          <a:blip r:embed="rId3"/>
          <a:stretch/>
        </p:blipFill>
        <p:spPr>
          <a:xfrm>
            <a:off x="5638680" y="4229280"/>
            <a:ext cx="3505320" cy="2628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0"/>
            <a:ext cx="838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ng%20lien.%20dl%20pseudocys0001" descr=""/>
          <p:cNvPicPr/>
          <p:nvPr/>
        </p:nvPicPr>
        <p:blipFill>
          <a:blip r:embed="rId1"/>
          <a:stretch/>
        </p:blipFill>
        <p:spPr>
          <a:xfrm>
            <a:off x="0" y="838080"/>
            <a:ext cx="3398760" cy="25495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2" name="ng%20lien.%20dl%20pseudocys0004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3429000" cy="25714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3" name="ng%20t%20lien0003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3200400" cy="24001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4" name="ng%20t%20lien0006" descr=""/>
          <p:cNvPicPr/>
          <p:nvPr/>
        </p:nvPicPr>
        <p:blipFill>
          <a:blip r:embed="rId4"/>
          <a:stretch/>
        </p:blipFill>
        <p:spPr>
          <a:xfrm>
            <a:off x="4343400" y="3505320"/>
            <a:ext cx="3475080" cy="26064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5" name="ng%20t%20lien0013" descr=""/>
          <p:cNvPicPr/>
          <p:nvPr/>
        </p:nvPicPr>
        <p:blipFill>
          <a:blip r:embed="rId5"/>
          <a:stretch/>
        </p:blipFill>
        <p:spPr>
          <a:xfrm>
            <a:off x="1219320" y="4114800"/>
            <a:ext cx="3475080" cy="26067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927240" cy="3608640"/>
          </a:xfrm>
          <a:prstGeom prst="rect">
            <a:avLst/>
          </a:prstGeom>
          <a:ln w="19080">
            <a:solidFill>
              <a:srgbClr val="ff7c8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913200" cy="4190760"/>
          </a:xfrm>
          <a:prstGeom prst="rect">
            <a:avLst/>
          </a:prstGeom>
          <a:ln w="1908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3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NI-WIN Sample Font"/>
              </a:rPr>
              <a:t>IV.LAÂM SAØNG &amp; CLS–V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-Côn ñau buïng caáp:thöôïng vò , cheách T, lan ra sau lö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Noân möû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Soá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CT Baïch caàu   thay ñoå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VNI-WIN Sample Fo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NI-WIN Sample Font"/>
              </a:rPr>
              <a:t>Men Amylase /m </a:t>
            </a:r>
            <a:r>
              <a:rPr b="0" lang="en-US" sz="3200" spc="-1" strike="noStrike">
                <a:solidFill>
                  <a:srgbClr val="ffffff"/>
                </a:solidFill>
                <a:latin typeface="SimSun"/>
                <a:ea typeface="SimSun"/>
              </a:rPr>
              <a:t>↗( &gt; 20 </a:t>
            </a:r>
            <a:r>
              <a:rPr b="0" lang="en-US" sz="3200" spc="-1" strike="noStrike">
                <a:solidFill>
                  <a:srgbClr val="ffffff"/>
                </a:solidFill>
                <a:latin typeface="VNI-WIN Sample Font"/>
                <a:ea typeface="SimSun"/>
              </a:rPr>
              <a:t>giôø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SimSun"/>
                <a:ea typeface="SimSun"/>
              </a:rPr>
              <a:t>→ </a:t>
            </a: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.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buïng khoâng chuaån bò (-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2dd3e"/>
                </a:solidFill>
                <a:latin typeface="VNI-WIN Sample Font"/>
                <a:ea typeface="SimSun"/>
              </a:rPr>
              <a:t>-Sieâu aâm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(+++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caét lôùp vi tính (+++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coäng höôûng töø (+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maïch (+/-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Chuïp oáng tuïy maät qua noäi soi (+/-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dd3e"/>
                </a:solidFill>
                <a:latin typeface="VNI-WIN Sample Font"/>
              </a:rPr>
              <a:t>VIEÂM TUÏY CAÁ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Vai troø cuûa caùc phöông tieän CÑ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VNI-WIN Sample Font"/>
                <a:ea typeface="SimSun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VNI-WIN Sample Font"/>
                <a:ea typeface="SimSun"/>
              </a:rPr>
              <a:t>Chaån ñoaùn sôùm VTC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eänh nguyeân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Xaùc ñònh bieán chöù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Ñaùnh giaù möùc ñoä thöông toån </a:t>
            </a:r>
            <a:r>
              <a:rPr b="0" lang="en-US" sz="3200" spc="-1" strike="noStrike">
                <a:solidFill>
                  <a:srgbClr val="ffffb7"/>
                </a:solidFill>
                <a:latin typeface="SimSun"/>
                <a:ea typeface="SimSun"/>
              </a:rPr>
              <a:t>→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giuùp tieân löôïng beän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Giuùp theo doõi qua ñieàu tr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VNI-WIN Sample Font"/>
                <a:ea typeface="SimSun"/>
              </a:rPr>
              <a:t>-Höôùng daãn can thieä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3:56:23Z</dcterms:created>
  <dc:creator>USER</dc:creator>
  <dc:description/>
  <dc:language>en-US</dc:language>
  <cp:lastModifiedBy>Nguyen Phuoc Bao Quan</cp:lastModifiedBy>
  <dcterms:modified xsi:type="dcterms:W3CDTF">2007-01-12T07:16:27Z</dcterms:modified>
  <cp:revision>22</cp:revision>
  <dc:subject/>
  <dc:title>VIEÂM TUÏY CAÁP </dc:title>
</cp:coreProperties>
</file>