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0EB-6E53-46CB-8BE6-BE437EABEB8F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AEE-03DE-4755-B6E8-63042FE7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Applicable for year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With reference to FA 1 2 3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epts.washington.edu/pnash/images/09_featured/09_forestnews/first_aid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1DB-03E5-45EE-BF26-B26752100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: May want to consider bringing samples to pass around and show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uguese man-of-war 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upload.wikimedia.org/wikipedia/commons/thumb/7/72/Portuguese_Man_o%27_War_-_Pine_Knoll_Shores%2C_NC_05-29-11.jpg/301px-Portuguese_Man_o%27_War_-_Pine_Knoll_Shores%2C_NC_05-29-1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2C0-6B6E-4795-A8A2-00DC6FBF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is to be followed up by a practical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up for video: http://www.youtube.com/watch?v=iAVAGIoHT7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0AA-5AF8-492A-980D-3EE4FF547A45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450-3FDE-41E7-B260-BF91BBC9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int 1: Ask ‘Hello hello are you ok?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up by showing Boys how to move victim to Recovery position-will require a volunt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473A-FA9F-4021-97D0-056E3989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41F5-A136-4596-9789-26347BBB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 of light-headedness: For Boys who are unclear, explain that it is like dizz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89E-6582-46CB-A3B1-087FCE6D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: 8 to 12 inches is 20 to 30 centimet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8AEF-6CAB-4E93-8818-A64C3BB0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Intro): Slides 4 to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Common ailments): Slides 11 to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imlich Manoeuvre prac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Heat injury): Slides 38 to 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Wounds and bleeding): Slides 58 to 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Fractures): Slides 69 to 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obilising fracture practi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Bites and stings): Slides 78 to 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CPR): Slides 91 to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E00-73F4-4143-ABEC-D399A354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point 3: Make mention of the myth of putting a spoon inside the victims mouth and state it does no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7DFA-AF9F-4CF1-AFB7-A579EFB9D6BB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0F6-54EC-463C-9A78-B23B4589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92B-D3D4-49E8-BAE5-56331B3F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for video: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www.youtube.com/watch?v=tEIiEAn7b-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FBF8-9B16-4443-9004-229AAD100984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F185-AE60-4DBD-9371-314B6210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: Since human body on average has 5-6 litres of blood, 2 litres of blood loss is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24D1-EDB0-4BC0-BAEF-A1590780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Vital signs refers to breathing, pulse rate, blood pressure and body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73D-F535-479D-834F-CC1FFA55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Rule of n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dy is divided into 11 sections, each comprising 9% of body surface. Sections that are burnt deep enough to cause blisters,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o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egree burns are counted, while partial areas are estimated. Rule of fives is a variation of above mentio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With referenc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irstaid.about.com/od/softtissueinjuries/a/07_burn_surface.h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knysnafm.co.za/wp-content/uploads/2011/07/6a00e551d60f0d883300e553b27f728833-800wi.gi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5BA-5B43-4737-94ED-B35F81D69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p is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low are the aims of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id-emphasise 3 ‘P’s to help Boys remember 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F72-D2A8-4CAD-A6E5-005B53F8A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e: What type of injury is it? Burn, fractur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tent: How severe or bad it is? Minor injury, life-threatening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bottom 2 points, mention they will be explained during lesson on C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F85D-DEEB-44B7-B098-83742687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cdli.ca/courses/biol2201/unit03_org02_ilo02/blood%20vesse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from http://upload.wikimedia.org/wikipedia/commons/e/e6/Bleeding_finger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83AE-431F-4BBD-B80C-6801AA8AA04F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EB1-2A5B-43EF-9CEF-554040A2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st examples (glass shards on ground, victim near open roa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measures to eliminate danger (move victim away from road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ther ways of measuring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iveness to vo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F01-B99F-41C4-AD99-6EB5152D7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points include carotid, brachial and inguinal arteries. Show to Boys where these pressure points 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228A-E469-4CB4-B118-E962F66B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story as in Medical history (allergies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ination- physical examination on inj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eatment-Wrapping of bandage. Mention that this applies only to what they’ve learnt under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id, further treatment should be done by doctors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www.buzzle.com/images/diagrams/skeleton/labeled-skeleton-diagram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icture: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lifeinthefastlane.com/wp-content/uploads/2010/04/Closed-clavicle-fracture.jpg?9d7bd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om picture: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upload.wikimedia.org/wikipedia/commons/d/d7/Open_fracture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www.nlm.nih.gov/medlineplus/ency/images/ency/fullsize/10202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Image from http://www.atomicrobotics.com/wp-content/uploads/2012/01/first-aid-kit-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CA6-87F6-44A2-A065-C37A2E6B6C49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0BA-4789-4506-98D5-7CA09F0D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pturing of live animal only when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Jack 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nycrodentcontrol.com/wp-content/uploads/2010/03/Yellow-Jacke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BD13-F796-40C5-81B2-24136ECE2711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AE1-CDB9-4C9A-A203-8DC8C49C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84B-E2C1-4826-B1E0-ECBFD5BA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B87-987C-4411-B21D-E0BD2E2F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983-EB60-4E36-AB8D-1CF9BCF0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6068-C7AA-4A6B-9EDF-181B6FCF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713-4D6E-43B5-8BD6-4A0765D3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5E3-F733-4E03-A4C8-B341629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E5C1-D228-4118-8CF7-F269A0D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28FE-AD04-42DA-B241-94022C9C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374A-B6A2-425F-B96C-82BE4FA4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03FB-4256-4E05-87A8-261AAB3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748-E329-4AAC-A898-8EAA3E7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7AF-BE26-4509-B213-03BD426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1C6-90F9-458B-82DA-D1B854E3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D1E-A8D3-481E-B9D7-AC4DFE5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B844-7761-4B80-9BF1-F262A3A0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A86E-E561-4E03-982C-489DD16C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396-91CC-4DED-8E90-87B0FE95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958-4F9F-4B74-9FE7-65D55309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D61-AD05-4E56-8610-7A6E28FC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310-D5E5-43E7-B22D-5DFA3AD4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B98-2335-4D32-AF51-2807BE5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9E8-88AB-46BA-86BC-3C14CA6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928-10ED-4720-A9BE-9E9888D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DDB-98C3-44EA-8A60-D7D86B8E099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Content Placeholder 3" descr="bb emblem.gif"/>
          <p:cNvPicPr/>
          <p:nvPr/>
        </p:nvPicPr>
        <p:blipFill>
          <a:blip r:embed="rId2"/>
          <a:stretch/>
        </p:blipFill>
        <p:spPr>
          <a:xfrm>
            <a:off x="4952880" y="5705640"/>
            <a:ext cx="1067040" cy="923760"/>
          </a:xfrm>
          <a:prstGeom prst="rect">
            <a:avLst/>
          </a:prstGeom>
          <a:ln w="0">
            <a:noFill/>
          </a:ln>
        </p:spPr>
      </p:pic>
      <p:sp>
        <p:nvSpPr>
          <p:cNvPr id="19" name="TextBox 4"/>
          <p:cNvSpPr/>
          <p:nvPr/>
        </p:nvSpPr>
        <p:spPr>
          <a:xfrm>
            <a:off x="6095880" y="5867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45</a:t>
            </a:r>
            <a:r>
              <a:rPr b="0" lang="en-SG" sz="1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Xinmin 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0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1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2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5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6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3" descr="bb emblem.gif"/>
          <p:cNvPicPr/>
          <p:nvPr/>
        </p:nvPicPr>
        <p:blipFill>
          <a:blip r:embed="rId2"/>
          <a:stretch/>
        </p:blipFill>
        <p:spPr>
          <a:xfrm>
            <a:off x="4952880" y="5705640"/>
            <a:ext cx="1067040" cy="923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5880" y="5867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45</a:t>
            </a:r>
            <a:r>
              <a:rPr b="0" lang="en-SG" sz="1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Xinmin 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5C5-5ACE-4B7A-90AF-CEEF59DBE3B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ontent Placeholder 3" descr="bb emblem.gif"/>
          <p:cNvPicPr/>
          <p:nvPr/>
        </p:nvPicPr>
        <p:blipFill>
          <a:blip r:embed="rId3"/>
          <a:stretch/>
        </p:blipFill>
        <p:spPr>
          <a:xfrm>
            <a:off x="4952880" y="5705640"/>
            <a:ext cx="106704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6095880" y="5867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45</a:t>
            </a:r>
            <a:r>
              <a:rPr b="0" lang="en-SG" sz="1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Xinmin 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dedede"/>
                </a:solidFill>
                <a:latin typeface="Trebuchet MS"/>
              </a:rPr>
              <a:t>First Aid Stage 1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Boys’ Brigade 4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4" descr="first_aid"/>
          <p:cNvPicPr/>
          <p:nvPr/>
        </p:nvPicPr>
        <p:blipFill>
          <a:blip r:embed="rId1"/>
          <a:stretch/>
        </p:blipFill>
        <p:spPr>
          <a:xfrm>
            <a:off x="250920" y="260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ontents of First Aid K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1. Cuts, wounds and blee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tton, gauze, antiseptic solution, flavine, roller bandag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2. Sprai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nthol rub, Crep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3. Fra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iangular bandages, spli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4. Insect bites and sting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tiseptic c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5. Bur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urn c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C,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bitten area lower than victim’s he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 on bitten ar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ng captured spider along, remember characteristics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Marine life stings (Jellyfish etc)-Symptom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572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or all of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nse burning 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ddening of skin, skin ras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cle cram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usea and vomi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y in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shock due to allergic rea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Picture 5" descr="301px-Portuguese_Man_o%27_War_-_Pine_Knoll_Shores%2C_NC_05-29-11"/>
          <p:cNvPicPr/>
          <p:nvPr/>
        </p:nvPicPr>
        <p:blipFill>
          <a:blip r:embed="rId1"/>
          <a:stretch/>
        </p:blipFill>
        <p:spPr>
          <a:xfrm>
            <a:off x="5715000" y="2362320"/>
            <a:ext cx="2867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tentac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h area with by rubbing with alcohol or vineg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for signs of s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corpion stings-Symptoms</a:t>
            </a: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y or all of the bel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re burning pain at site of b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 and vom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mach p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umbness and tingling in affected ar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ssible spasm of jaw muscles, hard to open mou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itching and spasm of musc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ck, convulsion, possible c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C,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bitten area lower than victim’s he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out for signs of s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Cardio-Pulmonary Resuscitation (CPR)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ardi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ulmona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Resusci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art        Lung          Restor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 into lu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 distributed around body (by hear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Down Arrow 10"/>
          <p:cNvSpPr/>
          <p:nvPr/>
        </p:nvSpPr>
        <p:spPr>
          <a:xfrm>
            <a:off x="2743200" y="2971800"/>
            <a:ext cx="357120" cy="371520"/>
          </a:xfrm>
          <a:prstGeom prst="downArrow">
            <a:avLst>
              <a:gd name="adj1" fmla="val 50000"/>
              <a:gd name="adj2" fmla="val 52016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own Arrow 10"/>
          <p:cNvSpPr/>
          <p:nvPr/>
        </p:nvSpPr>
        <p:spPr>
          <a:xfrm>
            <a:off x="4724280" y="2971800"/>
            <a:ext cx="357480" cy="371520"/>
          </a:xfrm>
          <a:prstGeom prst="downArrow">
            <a:avLst>
              <a:gd name="adj1" fmla="val 50000"/>
              <a:gd name="adj2" fmla="val 51964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own Arrow 10"/>
          <p:cNvSpPr/>
          <p:nvPr/>
        </p:nvSpPr>
        <p:spPr>
          <a:xfrm>
            <a:off x="1219320" y="2971800"/>
            <a:ext cx="357120" cy="371520"/>
          </a:xfrm>
          <a:prstGeom prst="downArrow">
            <a:avLst>
              <a:gd name="adj1" fmla="val 50000"/>
              <a:gd name="adj2" fmla="val 52016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When to use CP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in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c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ok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rt fail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ow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eck for danger (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eck for victim’s responsiveness (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hout for help; get passers-by to dial 995 (ask for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id kit and AED) (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nduct casualty assessment (move victim away from danger et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irway (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tilt, chin lift (head can bend forwar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n mouth and l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r denture, food, vomit, saliva, tongue that has fallen 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Common ailments and shock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 metho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reathing (B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t the chest mov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iste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breathing s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ee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warm air against cheek for signs of breathing fo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 sec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asping is not considered as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pulse does not return, start CPR (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intain head tilt, chin l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un middle finger from lower margin of victim’s ribcage to sternal not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index finger next to middle finger (landmark is lower half of breastbo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rforming chest compres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lace fingers, lift fingers off the chest w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aighten and lock elbo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on shoulders directly above victim’s ch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body weight to compress to at least a depth of 5 cm (adult) and count lou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 &amp; 2 &amp; 3 &amp; 4 &amp; 5 - 1 &amp; 2 &amp; 3 &amp;4 &amp; 3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llow with 2 blow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atios: 30 compressions to 2 breath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uth-to-mouth breat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llow with mouth-to-mouth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intain head tilt, chin l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nch nose and give 2 quick ventilations (400-600 ml per seco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chest rise and release the pinch after each brea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good quality CP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CPR until ambulance arrives/ AED is attached to casualty/ victim starts breathing/ rescuer becomes exhaus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breathing present, check for injuries and position victim in recovery pos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to monitor victim’s vital signs (breathing &amp; level of consciousness) every few minu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ev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dy temperature above 37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ign that something is wrong with bo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ller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fev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move excess clo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ove away from a warm environ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rink plenty of w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athe when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ainting (Syncope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rief loss of conscious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reduced blood supply to the br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covery occurs within few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Causes of faint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igh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unger (Low blood suga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hau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re 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otional up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longed stan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kin is pale, cool and w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ght-heade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Pre-fainting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e victim down and elevate limbs 8 to 12 inches, or sit victim down, slowly bend head forward and put head between kne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ove dangerous objects out of victim’s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lm &amp; reassure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an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Faint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e victim down and raise leg to 8 to 12 inch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intain an open airw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osen clothing, especially around ne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there is vomit, turn head sideways, let vomit flow out, prevent choki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the victim’s face with cool water but do not pour on the f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eck for other injur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victim regains consciousness, do not give water unless he seems fully recovered. Observe, calm and reassure the victi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recovery does not seem complete, see doctor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udden loss of consciousness, followed by uncontrolled movement of lim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asts for few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nnot be stopp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ont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troduction to First Aid and First Aid K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mmon Ailments and S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at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ounds and bleedin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ra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imal and insects bites and s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rdio-Pulmonary Resuscitation (CP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Causes of fi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fe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in tumo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/High blood sug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pilepsy (recurent seizur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ies of uncontrollable muscle mo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rt cry, scream, bluish l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become rigid, then jerky and start to twit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nched fists and teeth, eyes may be rolled upwar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eathing may stop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ss of control of bowel and bladder, drooling (respect the victim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teps to tak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to cushion the f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the area clear of objects and hum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DO NOT insert anything into the mouth or restrain the casual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DO NOT move casualty unless there is immediate da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DO NOT use force to restrain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l ambul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sth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adual or sudden narrowing of bronchial tubes in lung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us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xposure to aller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ronchitis (diseas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old weat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haled irritants in ai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motional fact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use difficulty in breathing as less oxygen can enter bloodst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fficulty exhaling (wheezing or whistling sound is hear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rvousness, tenseness, frigh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ugh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perspiration on forehe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oking sens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vomi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slight fev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luish tinge in sk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ctim always try to sit upright, easier to breath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irst occurr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d to 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ssure and comfort victim along the way, sit upright (do not lie dow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ld c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ke prescribed medic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nitor and rest,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f condition worsens, rush victim to nearest doctor or hospital or cal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9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Warning signal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ilure to improve with med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rd to breath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ability to coug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bluish tinge to sk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pulse rate, to more than 120 beats per minu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anxie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victim tries to pull up shoulders and chin to expand the chest to get air, call 99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hok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irway is partially/totally obstructed by a foreign object or commonly, the tong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begins grasping or breathing noisi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grasps his thro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not tal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y in breathing, coug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in becomes pale, white, gray or blue (cyanosi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looks or acts panick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consciousness eventually devel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conscious victi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Heimlich Maneuver (abdominal thrust) – preferred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k blows are used if abdominal thrusts not effective. (Hitting victim forcefully and repeatedly with palm between shoulder blad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victim can breathe or cough, do not interfere with his efforts to remove stuck objec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ssessme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ory/ Written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Treatment for conscious victims (Heimlich Maneuver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cannot breathe, stand behind him, space his two feet apart. Make victim lean slightly forwar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ce clenched fist 2 fingers above victim’s belly button. Cover fist with other han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ive 4 quick, forceful upward thrus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ncreases pressure in abdomen which pushes diaphragm up. This in turn increases air pressure in lung – force out objec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need to repeat 6 to 10 ti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unconscious victi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tilt, chin l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ess on chest to force object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and carry on with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sure tongue doesn’t fall 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d injur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conscious victim is considered to have suffered from head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usion (bruise), scalp laceration, skull frac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injury victim may also have neck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 head injuries must be taken seriously because they might lead to brain or spinal cord dam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or all of the bel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t, lump, bruise or depression in scal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unconsciousness, confusion or drowsiness and nauseous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eeding from nose, ear or mou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r or bloody fluid flowing from nose or 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le or reddish f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.  Headach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vul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pils of the eyes unequal in siz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y in  spee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tlessness and possibly confused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nge in pulse r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e doc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rst Aid: ABC standby CP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eep victim laid down and comfort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there is no evidence of neck or back injury, turn victim’s head to the side to allow secretions to dr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must move victim, do so gently and careful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ile transporting victim, ensure head does not move from side to side by placing pads on each side of hea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ol serious bleeding if a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Note of cau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some head injuries, the person may be conscious and seem 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mptoms may surfac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out for symptoms up to several day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hoc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ailure of circulatory system to circulate blood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Not enough oxygen reaching vital orga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n cause death if untrea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fluid/blood loss in injur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1/3 blood loss is dangerous for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pid and shallow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pid and weak pu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le ,cold and moist sk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tal state chang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eme th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unconsciousnes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 to the casualty as a form of reassurance. Bring victim to a cool pl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 casualty down and elevate the le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eat cause (e.g. if there is profuse blee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osen tight clo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nitor vital sig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Introduction to First Aid and First Aid Kit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hy and what is First A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sualty assess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irst Aid K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Burns and Heat injury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yp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Bur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 of injury that may be caused by heat, cold, electricity, chemicals, light, radiation or fri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y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a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Radiation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hemical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Electrical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ypes (Degrees) and fea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SG" sz="28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 degree – Superficial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Redness and swell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SG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 degree – Partial thickness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Blisters on top of redness and swell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Rawne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SG" sz="28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 degree – Full thickness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Pale white, waxy skin or charr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Pain fre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eve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termined by many factors, including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 size (Rule of nines/fiv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 dep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 si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Victim’s 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1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Georgia"/>
              </a:rPr>
              <a:t>st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and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Georgia"/>
              </a:rPr>
              <a:t>n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degre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ol burn (with running wate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move constric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ver burn in a non-adhesive dres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Georgia"/>
              </a:rPr>
              <a:t>r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degre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l 99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move any constric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ver with non-adhesive dres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NOT attempt to clean the bur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unbur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degree burn caused by overexposure to S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olonged exposure can lead to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degree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1" name="Picture 5" descr="6a00e551d60f0d883300e553b27f728833-800wi"/>
          <p:cNvPicPr/>
          <p:nvPr/>
        </p:nvPicPr>
        <p:blipFill>
          <a:blip r:embed="rId1"/>
          <a:stretch/>
        </p:blipFill>
        <p:spPr>
          <a:xfrm>
            <a:off x="6477120" y="3352680"/>
            <a:ext cx="2428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y of the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ld swel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isters and considerable swelling in severe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ain relie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ur cold water on sunburned ar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constrictors (watches et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merge in cold w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wet cold cloth on sunburned are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er burnt area to prevent 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blisters, do not break it, 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24456"/>
                </a:solidFill>
                <a:latin typeface="Trebuchet MS"/>
              </a:rPr>
              <a:t>Types of heat injuri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523880"/>
            <a:ext cx="3786120" cy="738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Heat Cra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357880" y="1447920"/>
            <a:ext cx="3786120" cy="13302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Heat Exhau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214960" y="4038480"/>
            <a:ext cx="3929040" cy="7365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Heat Stro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3962520"/>
            <a:ext cx="4500720" cy="80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Unconsc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11"/>
          <p:cNvSpPr/>
          <p:nvPr/>
        </p:nvSpPr>
        <p:spPr>
          <a:xfrm>
            <a:off x="6934320" y="2895480"/>
            <a:ext cx="662040" cy="905040"/>
          </a:xfrm>
          <a:prstGeom prst="downArrow">
            <a:avLst>
              <a:gd name="adj1" fmla="val 50000"/>
              <a:gd name="adj2" fmla="val 68352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4495680" y="4191120"/>
            <a:ext cx="609840" cy="533160"/>
          </a:xfrm>
          <a:prstGeom prst="leftArrow">
            <a:avLst>
              <a:gd name="adj1" fmla="val 50000"/>
              <a:gd name="adj2" fmla="val 28596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41148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t cramp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cle pains and spasm caused by a loss of salt due to profuse swe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omach and leg muscles affected f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strenuous physical activity under the S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n be a symptom of heat exhau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Definition and ai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mediat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 casual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ny injury or sudden illnes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efore th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rrival of an ambulance, doctor or other qualified pers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4 ‘P’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eserve lif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event worsening of w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omote recove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Georgia"/>
              </a:rPr>
              <a:t>Provide comfort and relie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inful muscle cramping and spa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vy swe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convul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 the victim sit quietly in cool pl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firm hand pressure to affected area or gently massage the victim’s cramped musc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not vomiting, give fluids (clear juice or salt water e.g.100 Plus). Stop when vom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 doctor if possible as complications may ar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t exhaus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prolonged exposure to high heat and humid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y or all of the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ire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Excessive swe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Muscle cram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Rapid pulse and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ve victim to shade or cooler pl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e victim dow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ise feet to 8 to 12 in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osen victim’s clo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fluids if not vomiting, stop if vom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nitor vital signs (response &amp; level of consciousnes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cool wet cloth on body and forehe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. Use fan to cool victim or move to air con room if avail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8. If symptoms are severe, become worse or last longer than an hour, 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tstrok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urbance in the body’s heat regulating system caused by extremely high body temperature due 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exposure to he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bility of body to cool itsel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fe-threatening emergen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y or all of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emely high body temp. (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&gt;40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Arial"/>
              </a:rPr>
              <a:t>°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Arial"/>
              </a:rPr>
              <a:t>Hot, flushed and dry sk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weating usually abs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Rapid and strong pu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Possible unconsciousness or conf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dress victim, put in tub of cold (not iced) water or spray with hose or sponge with cool water or rub alcohol or apply cold packs to bo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treatment until temperature reach 38.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Do not overchill. Check temperature constantl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. Dry off victim once temperature is lowe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. Seek medical attention promptly, nearest A and 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ca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in front of fan or air con to continue coo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emp. rise, repeat cooling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give alcohol or stimulants like tea and coffe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asualty assess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ature and extent of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Unconscious-do ABC (Airway, Breathing, Circula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f need, do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Wounds and bleeding</a:t>
            </a:r>
            <a:r>
              <a:rPr b="0" lang="en-GB" sz="4500" spc="-1" strike="noStrike">
                <a:solidFill>
                  <a:srgbClr val="dedede"/>
                </a:solidFill>
                <a:latin typeface="Trebuchet MS"/>
              </a:rPr>
              <a:t> 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lood vesse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ypes of wou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ymp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Blood vessel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3827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3 typ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rtery (carries blood away from hear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in (carries blood towards hear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apillary (vessels linking arteries and vein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6" descr="Blood vessels"/>
          <p:cNvPicPr/>
          <p:nvPr/>
        </p:nvPicPr>
        <p:blipFill>
          <a:blip r:embed="rId1"/>
          <a:stretch/>
        </p:blipFill>
        <p:spPr>
          <a:xfrm>
            <a:off x="4211640" y="2057400"/>
            <a:ext cx="4932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W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normal break in skin tissues and blood vess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od allowed to esc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teria can enter and cause 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life-threa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aus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rp obj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n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BB: Can opener, pegs, opened can li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ypes of wounds (Blood flow</a:t>
            </a:r>
            <a:r>
              <a:rPr b="0" lang="en-GB" sz="40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ernal haemorrhage (Blood is seen, flow out, out of circulatory system, out of bod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nal haemorrhage (Blood flow out of circulatory system but not bod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cutanneous haemorrhage (At the fat lay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ypes of wounds (Blood vessel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morrh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ood is bright red, fully oxygena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es from heart, high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spu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nous hemmorh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rk red blood (low oxyge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ows at lower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 spur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gush profusely if major vein ruptu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ypes of wounds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pillary haemorrh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comm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nt in any w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od oozes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5" descr="http://upload.wikimedia.org/wikipedia/commons/e/e6/Bleeding_finger.jpg"/>
          <p:cNvPicPr/>
          <p:nvPr/>
        </p:nvPicPr>
        <p:blipFill>
          <a:blip r:embed="rId1"/>
          <a:stretch/>
        </p:blipFill>
        <p:spPr>
          <a:xfrm>
            <a:off x="5029200" y="2743200"/>
            <a:ext cx="376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open w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rasions (graz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erficial wound (due to friction bur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embedded with dirt which may result in 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dry, leave open. If wet, cover with dry gauze dressing (not cotton wool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cised wou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 cut by a sharp 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ssels may be c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 bleeding by applying direct or indirect pressure, elev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cer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r in skin 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(eg: from barbed wir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dges are irregul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contaminated; danger of infection is hig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Main Casualty Assess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anger (surrounding danger?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sponse level of casualty (Conscious? Able to feel pain?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ir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uncture/stab wou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ep wound caused by a nail or sharp, pointed obj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sk of infection is hig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o not remove any impaled obj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vul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used by machinery or explosive dev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in and underlying tissue torn off or left ha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re bleeding may occ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mput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dy part is cut and torn of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eeding may be seve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ke all preserved amputated body parts to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rving body par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ap amputated part in clean dry gauze to absorb mois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t wrapped amputated body part in plastic ba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bag with wrapped part in another bag of i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seble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eez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wing hard on the n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nch soft parts of nose and lean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eathe through n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ease after 10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bleeding continues, reapply pressure for 2 further  periods of 10 minutes ea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 if bleeding persi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Symptoms for major external bleed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sualty feels pain and gid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e and lips become pa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in feels cold &amp; clamm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lse becomes fast and wea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sualty becomes restless and talka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complains of th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llow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minor w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h hands firs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 wound with water, antiseptic l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 with sterile swa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medic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essing if necess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profuse bleed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vate injured re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rect press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pressure to wound with dress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atten vessel, slow down blood fl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od enabled to cl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for 5 to 15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essing after bleeding sto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Treatment for profuse bleeding (continued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799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rect pressure (pressure point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last resort (10 min. max.), rel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at the point above w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atten artery (tissue necrosi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bleeding stops, apply dress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ssessment for conscious victi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Examin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ra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eletal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uman skeletal 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 the whole body and gives it a definite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tachment of muscles, serves as levers enabling mov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cts delicate orga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es blood cells through bone marrow in ribs and long b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uman skeletal 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xial skeleton – skull, vertebral column, ribs and stern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endicular skeleton – limbs and limb gird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Picture 5" descr="labeled-skeleton-diagram"/>
          <p:cNvPicPr/>
          <p:nvPr/>
        </p:nvPicPr>
        <p:blipFill>
          <a:blip r:embed="rId1"/>
          <a:stretch/>
        </p:blipFill>
        <p:spPr>
          <a:xfrm>
            <a:off x="5867280" y="1371600"/>
            <a:ext cx="2881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ra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oken or cracked bone caused by direct force (tibia) or indirect force (clavic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ed (break within skin, skin not torn or broken, swelling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 (skin break, bone protrude, bleeding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Picture 5" descr="Open_fracture"/>
          <p:cNvPicPr/>
          <p:nvPr/>
        </p:nvPicPr>
        <p:blipFill>
          <a:blip r:embed="rId1"/>
          <a:stretch/>
        </p:blipFill>
        <p:spPr>
          <a:xfrm>
            <a:off x="5105520" y="3276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Closed-clavicle-fracture"/>
          <p:cNvPicPr/>
          <p:nvPr/>
        </p:nvPicPr>
        <p:blipFill>
          <a:blip r:embed="rId2"/>
          <a:stretch/>
        </p:blipFill>
        <p:spPr>
          <a:xfrm>
            <a:off x="5105520" y="6094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ypes of fra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572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eensti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inu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verse/Si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tebral compre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us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rect/indirect fo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cular 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gns and 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ss of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norm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l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der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pitu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racking sound under the skin around the lungs/around the joint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 injured limb until it is immobilis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mobilis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vents movement so th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will be no further 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ken bone will not injure other orga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ken bone will not rupture blood vess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 no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s down directly on protruding b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ve casualty until injured part is supported and secu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 casualty eat/drink any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inciples of immobilisa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ize movem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, gently move injured par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mobilize with wooden splints, splintless methods, improvise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irst Aid K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l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uts, wounds, ble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prai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ra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sect bites and s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5" descr="http://www.atomicrobotics.com/wp-content/uploads/2012/01/first-aid-kit-image.jpg"/>
          <p:cNvPicPr/>
          <p:nvPr/>
        </p:nvPicPr>
        <p:blipFill>
          <a:blip r:embed="rId1"/>
          <a:stretch/>
        </p:blipFill>
        <p:spPr>
          <a:xfrm>
            <a:off x="5029200" y="1981080"/>
            <a:ext cx="3933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spli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ised splint: folded newspapers and magaz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ercial splint: SAM sprint, air splint, wooden spl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f splint: Injured part tied to uninjured body p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to immobili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vicle (collar bo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located shoul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per ar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 arm, wr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b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nd, fi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b c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per le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 le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Animal and insect bites and stings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nimal bi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caus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nfection, tissue damage and swel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crat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ca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ransmit tetanus and rabi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: bats, squirrels, raccoons, foxes, cats and dog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ash wound thoroughl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ap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unning water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 minutes or more to wash out contamina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erile banda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ek medical atten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mpt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ng parts of body bitten off to hospit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ture animal alive and remember its 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Insect bi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495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stings cause local reactions (redness, swell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stings can be life threatening if victim is allergic to insect’s ven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 include honeybees, hornets, wasps, yellow jackets, bumblebees, fire 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3" name="Picture 5" descr="Yellow-Jacket"/>
          <p:cNvPicPr/>
          <p:nvPr/>
        </p:nvPicPr>
        <p:blipFill>
          <a:blip r:embed="rId1"/>
          <a:stretch/>
        </p:blipFill>
        <p:spPr>
          <a:xfrm>
            <a:off x="4952880" y="2743200"/>
            <a:ext cx="3810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stinger by scarping skin with knife bla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squeeze out stinger as this may lead to spread of venom through compression of stinger sa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h with soap and w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ieve discomfort with calamine l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llergic reactions to sting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be life threatening – shock (lack of supply of oxygen to ce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mptoms: Severe swelling of eyes, lips, tongue and site of b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ives or hive-like ra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ughing, wheezing, severe itching, difficulty in breathing, stomach cram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, vomiting, anxiety, weak, dizz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uish tinge to skin, collapse, unconscious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irway, breathing, circulation (AB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sti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urniquet (2 to 4 inches) above bite site, maintain pulse below, remove every 5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e victim dow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pider bites 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 or all of the bel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ight redness, pain and swell around b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fuse swea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 and possible vom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mach cramps or hard, rigid abdom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 cramps in other pa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ghtness in chest and difficulty in breath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zuhui</dc:creator>
  <dc:description/>
  <dc:language>en-US</dc:language>
  <cp:lastModifiedBy>Fujitsu</cp:lastModifiedBy>
  <dcterms:modified xsi:type="dcterms:W3CDTF">2012-03-17T01:48:39Z</dcterms:modified>
  <cp:revision>57</cp:revision>
  <dc:subject/>
  <dc:title>Slide 1</dc:title>
</cp:coreProperties>
</file>