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F909-13E8-4F54-B726-5580359B5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FCFB-3ED1-4E5A-A308-F011346B2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307-7C24-4A11-9213-8A5A54AC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068-2851-4144-8E57-D40C7DBB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B9D-1428-4515-A458-909C8117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11B-FF5B-486A-8E41-41E8D384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267-468F-4A05-A1B2-89E66E7D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D41-85BF-4B5B-B7D4-94301373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4CC-F4AB-4585-813E-C6CA1A98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CE7-CE28-4991-842C-7F3EC3E8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1F6-9D41-4E14-B9ED-9AD62150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E3F-5AD7-4804-8FE6-94B53BC7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A67-3FDA-455B-91EC-710DC326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D5E-CCEE-403B-85A5-45A10654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7ECD-B893-4A24-A525-DD8C018D3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slide" Target="slide8.xml"/><Relationship Id="rId20" Type="http://schemas.openxmlformats.org/officeDocument/2006/relationships/slide" Target="slide8.xml"/><Relationship Id="rId21" Type="http://schemas.openxmlformats.org/officeDocument/2006/relationships/slide" Target="slide13.xml"/><Relationship Id="rId22" Type="http://schemas.openxmlformats.org/officeDocument/2006/relationships/slide" Target="slide18.xml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48" TargetMode="External"/><Relationship Id="rId2" Type="http://schemas.openxmlformats.org/officeDocument/2006/relationships/hyperlink" Target="http://yibian.hopto.org/yao/?yno=309" TargetMode="External"/><Relationship Id="rId3" Type="http://schemas.openxmlformats.org/officeDocument/2006/relationships/hyperlink" Target="http://yibian.hopto.org/yao/?yno=2" TargetMode="External"/><Relationship Id="rId4" Type="http://schemas.openxmlformats.org/officeDocument/2006/relationships/hyperlink" Target="http://yibian.hopto.org/yao/?yno=402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48" TargetMode="External"/><Relationship Id="rId2" Type="http://schemas.openxmlformats.org/officeDocument/2006/relationships/hyperlink" Target="http://yibian.hopto.org/yao/?yno=227" TargetMode="External"/><Relationship Id="rId3" Type="http://schemas.openxmlformats.org/officeDocument/2006/relationships/hyperlink" Target="http://yibian.hopto.org/yao/?yno=65" TargetMode="External"/><Relationship Id="rId4" Type="http://schemas.openxmlformats.org/officeDocument/2006/relationships/hyperlink" Target="http://yibian.hopto.org/yao/?yno=375" TargetMode="External"/><Relationship Id="rId5" Type="http://schemas.openxmlformats.org/officeDocument/2006/relationships/hyperlink" Target="http://yibian.hopto.org/yao/?yno=45" TargetMode="External"/><Relationship Id="rId6" Type="http://schemas.openxmlformats.org/officeDocument/2006/relationships/hyperlink" Target="http://yibian.hopto.org/yao/?yno=29" TargetMode="External"/><Relationship Id="rId7" Type="http://schemas.openxmlformats.org/officeDocument/2006/relationships/hyperlink" Target="http://yibian.hopto.org/yao/?yno=17" TargetMode="External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48" TargetMode="External"/><Relationship Id="rId2" Type="http://schemas.openxmlformats.org/officeDocument/2006/relationships/hyperlink" Target="http://yibian.hopto.org/yao/?yno=402" TargetMode="External"/><Relationship Id="rId3" Type="http://schemas.openxmlformats.org/officeDocument/2006/relationships/hyperlink" Target="http://yibian.hopto.org/yao/?yno=227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103" TargetMode="External"/><Relationship Id="rId2" Type="http://schemas.openxmlformats.org/officeDocument/2006/relationships/hyperlink" Target="http://yibian.hopto.org/yao/?yno=402" TargetMode="External"/><Relationship Id="rId3" Type="http://schemas.openxmlformats.org/officeDocument/2006/relationships/hyperlink" Target="http://yibian.hopto.org/yao/?yno=347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48" TargetMode="External"/><Relationship Id="rId2" Type="http://schemas.openxmlformats.org/officeDocument/2006/relationships/hyperlink" Target="http://yibian.hopto.org/yao/?yno=29" TargetMode="External"/><Relationship Id="rId3" Type="http://schemas.openxmlformats.org/officeDocument/2006/relationships/hyperlink" Target="http://yibian.hopto.org/yao/?yno=17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219" TargetMode="External"/><Relationship Id="rId2" Type="http://schemas.openxmlformats.org/officeDocument/2006/relationships/hyperlink" Target="http://yibian.hopto.org/yao/?yno=29" TargetMode="External"/><Relationship Id="rId3" Type="http://schemas.openxmlformats.org/officeDocument/2006/relationships/hyperlink" Target="http://yibian.hopto.org/yao/?yno=17" TargetMode="External"/><Relationship Id="rId4" Type="http://schemas.openxmlformats.org/officeDocument/2006/relationships/hyperlink" Target="http://yibian.hopto.org/yao/?yno=309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94" TargetMode="External"/><Relationship Id="rId2" Type="http://schemas.openxmlformats.org/officeDocument/2006/relationships/hyperlink" Target="http://yibian.hopto.org/yao/?yno=363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6.xml"/><Relationship Id="rId20" Type="http://schemas.openxmlformats.org/officeDocument/2006/relationships/slide" Target="slide8.xml"/><Relationship Id="rId21" Type="http://schemas.openxmlformats.org/officeDocument/2006/relationships/slide" Target="slide14.xml"/><Relationship Id="rId22" Type="http://schemas.openxmlformats.org/officeDocument/2006/relationships/slide" Target="slide18.xml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8.xml"/><Relationship Id="rId9" Type="http://schemas.openxmlformats.org/officeDocument/2006/relationships/slide" Target="slide18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7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227" TargetMode="External"/><Relationship Id="rId2" Type="http://schemas.openxmlformats.org/officeDocument/2006/relationships/hyperlink" Target="http://yibian.hopto.org/yao/?yno=65" TargetMode="External"/><Relationship Id="rId3" Type="http://schemas.openxmlformats.org/officeDocument/2006/relationships/hyperlink" Target="http://yibian.hopto.org/yao/?yno=374" TargetMode="External"/><Relationship Id="rId4" Type="http://schemas.openxmlformats.org/officeDocument/2006/relationships/hyperlink" Target="http://yibian.hopto.org/yao/?yno=307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42" TargetMode="External"/><Relationship Id="rId2" Type="http://schemas.openxmlformats.org/officeDocument/2006/relationships/hyperlink" Target="http://yibian.hopto.org/yao/?yno=48" TargetMode="External"/><Relationship Id="rId3" Type="http://schemas.openxmlformats.org/officeDocument/2006/relationships/hyperlink" Target="http://yibian.hopto.org/yao/?yno=374" TargetMode="External"/><Relationship Id="rId4" Type="http://schemas.openxmlformats.org/officeDocument/2006/relationships/hyperlink" Target="http://yibian.hopto.org/yao/?yno=227" TargetMode="External"/><Relationship Id="rId5" Type="http://schemas.openxmlformats.org/officeDocument/2006/relationships/hyperlink" Target="http://yibian.hopto.org/yao/?yno=65" TargetMode="External"/><Relationship Id="rId6" Type="http://schemas.openxmlformats.org/officeDocument/2006/relationships/hyperlink" Target="http://yibian.hopto.org/yao/?yno=307" TargetMode="External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48" TargetMode="External"/><Relationship Id="rId2" Type="http://schemas.openxmlformats.org/officeDocument/2006/relationships/hyperlink" Target="http://yibian.hopto.org/yao/?yno=227" TargetMode="External"/><Relationship Id="rId3" Type="http://schemas.openxmlformats.org/officeDocument/2006/relationships/hyperlink" Target="http://yibian.hopto.org/yao/?yno=309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46" TargetMode="External"/><Relationship Id="rId2" Type="http://schemas.openxmlformats.org/officeDocument/2006/relationships/hyperlink" Target="http://yibian.hopto.org/yao/?yno=99" TargetMode="External"/><Relationship Id="rId3" Type="http://schemas.openxmlformats.org/officeDocument/2006/relationships/hyperlink" Target="http://yibian.hopto.org/yao/?yno=3" TargetMode="External"/><Relationship Id="rId4" Type="http://schemas.openxmlformats.org/officeDocument/2006/relationships/hyperlink" Target="http://yibian.hopto.org/yao/?yno=29" TargetMode="External"/><Relationship Id="rId5" Type="http://schemas.openxmlformats.org/officeDocument/2006/relationships/hyperlink" Target="http://yibian.hopto.org/yao/?yno=2" TargetMode="External"/><Relationship Id="rId6" Type="http://schemas.openxmlformats.org/officeDocument/2006/relationships/hyperlink" Target="http://yibian.hopto.org/yao/?yno=374" TargetMode="External"/><Relationship Id="rId7" Type="http://schemas.openxmlformats.org/officeDocument/2006/relationships/hyperlink" Target="http://yibian.hopto.org/yao/?yno=307" TargetMode="External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yibian.hopto.org/yao/?yno=238" TargetMode="External"/><Relationship Id="rId2" Type="http://schemas.openxmlformats.org/officeDocument/2006/relationships/hyperlink" Target="http://yibian.hopto.org/yao/?yno=120" TargetMode="External"/><Relationship Id="rId3" Type="http://schemas.openxmlformats.org/officeDocument/2006/relationships/hyperlink" Target="http://yibian.hopto.org/yao/?yno=7" TargetMode="External"/><Relationship Id="rId4" Type="http://schemas.openxmlformats.org/officeDocument/2006/relationships/hyperlink" Target="http://yibian.hopto.org/yao/?yno=219" TargetMode="External"/><Relationship Id="rId5" Type="http://schemas.openxmlformats.org/officeDocument/2006/relationships/hyperlink" Target="http://yibian.hopto.org/yao/?yno=227" TargetMode="Externa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99"/>
          <p:cNvGrpSpPr/>
          <p:nvPr/>
        </p:nvGrpSpPr>
        <p:grpSpPr>
          <a:xfrm>
            <a:off x="0" y="457200"/>
            <a:ext cx="9036000" cy="5429160"/>
            <a:chOff x="0" y="457200"/>
            <a:chExt cx="9036000" cy="5429160"/>
          </a:xfrm>
        </p:grpSpPr>
        <p:sp>
          <p:nvSpPr>
            <p:cNvPr id="49" name="AutoShape 55"/>
            <p:cNvSpPr/>
            <p:nvPr/>
          </p:nvSpPr>
          <p:spPr>
            <a:xfrm>
              <a:off x="0" y="5105160"/>
              <a:ext cx="731880" cy="776520"/>
            </a:xfrm>
            <a:custGeom>
              <a:avLst/>
              <a:gdLst>
                <a:gd name="textAreaLeft" fmla="*/ 35640 w 731880"/>
                <a:gd name="textAreaRight" fmla="*/ 696240 w 731880"/>
                <a:gd name="textAreaTop" fmla="*/ 35640 h 776520"/>
                <a:gd name="textAreaBottom" fmla="*/ 740880 h 776520"/>
              </a:gdLst>
              <a:ahLst/>
              <a:rect l="textAreaLeft" t="textAreaTop" r="textAreaRight" b="textAreaBottom"/>
              <a:pathLst>
                <a:path w="21600" h="22917">
                  <a:moveTo>
                    <a:pt x="3600" y="0"/>
                  </a:moveTo>
                  <a:arcTo wR="3600" hR="3600" stAng="16200000" swAng="-5400000"/>
                  <a:lnTo>
                    <a:pt x="0" y="19317"/>
                  </a:lnTo>
                  <a:arcTo wR="3600" hR="3600" stAng="10800000" swAng="-5400000"/>
                  <a:lnTo>
                    <a:pt x="18000" y="22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" action="ppaction://hlinksldjump"/>
                </a:rPr>
                <a:t>五苓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98"/>
            <p:cNvGrpSpPr/>
            <p:nvPr/>
          </p:nvGrpSpPr>
          <p:grpSpPr>
            <a:xfrm>
              <a:off x="46080" y="457200"/>
              <a:ext cx="8989920" cy="5429160"/>
              <a:chOff x="46080" y="457200"/>
              <a:chExt cx="8989920" cy="5429160"/>
            </a:xfrm>
          </p:grpSpPr>
          <p:grpSp>
            <p:nvGrpSpPr>
              <p:cNvPr id="51" name="Organization Chart 2"/>
              <p:cNvGrpSpPr/>
              <p:nvPr/>
            </p:nvGrpSpPr>
            <p:grpSpPr>
              <a:xfrm>
                <a:off x="884160" y="457200"/>
                <a:ext cx="7240320" cy="5429160"/>
                <a:chOff x="884160" y="457200"/>
                <a:chExt cx="7240320" cy="5429160"/>
              </a:xfrm>
            </p:grpSpPr>
            <p:cxnSp>
              <p:nvCxnSpPr>
                <p:cNvPr id="52" name="_s1028"/>
                <p:cNvCxnSpPr>
                  <a:stCxn id="53" idx="0"/>
                  <a:endCxn id="54" idx="2"/>
                </p:cNvCxnSpPr>
                <p:nvPr/>
              </p:nvCxnSpPr>
              <p:spPr>
                <a:xfrm rot="16200000">
                  <a:off x="7561800" y="4916520"/>
                  <a:ext cx="387720" cy="36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</p:cxnSp>
            <p:cxnSp>
              <p:nvCxnSpPr>
                <p:cNvPr id="55" name="_s1029"/>
                <p:cNvCxnSpPr>
                  <a:stCxn id="56" idx="0"/>
                  <a:endCxn id="57" idx="2"/>
                </p:cNvCxnSpPr>
                <p:nvPr/>
              </p:nvCxnSpPr>
              <p:spPr>
                <a:xfrm rot="16200000">
                  <a:off x="6584400" y="4916520"/>
                  <a:ext cx="387720" cy="36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</p:cxnSp>
            <p:cxnSp>
              <p:nvCxnSpPr>
                <p:cNvPr id="58" name="_s1030"/>
                <p:cNvCxnSpPr>
                  <a:stCxn id="59" idx="0"/>
                  <a:endCxn id="60" idx="2"/>
                </p:cNvCxnSpPr>
                <p:nvPr/>
              </p:nvCxnSpPr>
              <p:spPr>
                <a:xfrm rot="16200000">
                  <a:off x="5727960" y="4916520"/>
                  <a:ext cx="387720" cy="36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</p:cxnSp>
            <p:cxnSp>
              <p:nvCxnSpPr>
                <p:cNvPr id="61" name="_s1031"/>
                <p:cNvCxnSpPr>
                  <a:stCxn id="62" idx="0"/>
                  <a:endCxn id="63" idx="2"/>
                </p:cNvCxnSpPr>
                <p:nvPr/>
              </p:nvCxnSpPr>
              <p:spPr>
                <a:xfrm rot="16200000">
                  <a:off x="4744800" y="4916520"/>
                  <a:ext cx="387720" cy="36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</p:cxnSp>
            <p:cxnSp>
              <p:nvCxnSpPr>
                <p:cNvPr id="64" name="_s1032"/>
                <p:cNvCxnSpPr>
                  <a:stCxn id="65" idx="0"/>
                  <a:endCxn id="66" idx="2"/>
                </p:cNvCxnSpPr>
                <p:nvPr/>
              </p:nvCxnSpPr>
              <p:spPr>
                <a:xfrm flipH="1" flipV="1" rot="5400000">
                  <a:off x="3879720" y="4916160"/>
                  <a:ext cx="387720" cy="108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</p:cxnSp>
            <p:cxnSp>
              <p:nvCxnSpPr>
                <p:cNvPr id="67" name="_s1033"/>
                <p:cNvCxnSpPr>
                  <a:stCxn id="68" idx="0"/>
                  <a:endCxn id="69" idx="2"/>
                </p:cNvCxnSpPr>
                <p:nvPr/>
              </p:nvCxnSpPr>
              <p:spPr>
                <a:xfrm flipV="1" rot="16200000">
                  <a:off x="2896920" y="4916160"/>
                  <a:ext cx="387720" cy="108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</p:cxnSp>
            <p:cxnSp>
              <p:nvCxnSpPr>
                <p:cNvPr id="70" name="_s1034"/>
                <p:cNvCxnSpPr>
                  <a:stCxn id="71" idx="0"/>
                  <a:endCxn id="72" idx="2"/>
                </p:cNvCxnSpPr>
                <p:nvPr/>
              </p:nvCxnSpPr>
              <p:spPr>
                <a:xfrm flipH="1" flipV="1" rot="5400000">
                  <a:off x="2039400" y="4916160"/>
                  <a:ext cx="387720" cy="108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</p:cxnSp>
            <p:cxnSp>
              <p:nvCxnSpPr>
                <p:cNvPr id="73" name="_s1035"/>
                <p:cNvCxnSpPr>
                  <a:stCxn id="74" idx="0"/>
                  <a:endCxn id="75" idx="2"/>
                </p:cNvCxnSpPr>
                <p:nvPr/>
              </p:nvCxnSpPr>
              <p:spPr>
                <a:xfrm rot="16200000">
                  <a:off x="1060200" y="4916520"/>
                  <a:ext cx="387720" cy="36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</p:cxnSp>
            <p:cxnSp>
              <p:nvCxnSpPr>
                <p:cNvPr id="76" name="_s1036"/>
                <p:cNvCxnSpPr>
                  <a:stCxn id="54" idx="1"/>
                  <a:endCxn id="77" idx="2"/>
                </p:cNvCxnSpPr>
                <p:nvPr/>
              </p:nvCxnSpPr>
              <p:spPr>
                <a:xfrm rot="10800000">
                  <a:off x="7265520" y="3560760"/>
                  <a:ext cx="121320" cy="77508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8" name="_s1037"/>
                <p:cNvCxnSpPr>
                  <a:stCxn id="57" idx="3"/>
                  <a:endCxn id="77" idx="2"/>
                </p:cNvCxnSpPr>
                <p:nvPr/>
              </p:nvCxnSpPr>
              <p:spPr>
                <a:xfrm flipV="1">
                  <a:off x="7144920" y="3560760"/>
                  <a:ext cx="120960" cy="77508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9" name="_s1038"/>
                <p:cNvCxnSpPr>
                  <a:stCxn id="60" idx="1"/>
                  <a:endCxn id="80" idx="2"/>
                </p:cNvCxnSpPr>
                <p:nvPr/>
              </p:nvCxnSpPr>
              <p:spPr>
                <a:xfrm rot="10800000">
                  <a:off x="5432400" y="3560760"/>
                  <a:ext cx="120600" cy="77508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81" name="_s1039"/>
                <p:cNvCxnSpPr>
                  <a:stCxn id="63" idx="3"/>
                  <a:endCxn id="80" idx="2"/>
                </p:cNvCxnSpPr>
                <p:nvPr/>
              </p:nvCxnSpPr>
              <p:spPr>
                <a:xfrm flipV="1">
                  <a:off x="5310720" y="3560760"/>
                  <a:ext cx="122040" cy="77508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82" name="_s1040"/>
                <p:cNvCxnSpPr>
                  <a:stCxn id="66" idx="1"/>
                  <a:endCxn id="83" idx="2"/>
                </p:cNvCxnSpPr>
                <p:nvPr/>
              </p:nvCxnSpPr>
              <p:spPr>
                <a:xfrm rot="10800000">
                  <a:off x="3582360" y="3560760"/>
                  <a:ext cx="120600" cy="77508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84" name="_s1041"/>
                <p:cNvCxnSpPr>
                  <a:stCxn id="69" idx="3"/>
                  <a:endCxn id="83" idx="2"/>
                </p:cNvCxnSpPr>
                <p:nvPr/>
              </p:nvCxnSpPr>
              <p:spPr>
                <a:xfrm flipV="1">
                  <a:off x="3459240" y="3560760"/>
                  <a:ext cx="123480" cy="77508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85" name="_s1042"/>
                <p:cNvCxnSpPr>
                  <a:stCxn id="72" idx="1"/>
                  <a:endCxn id="86" idx="2"/>
                </p:cNvCxnSpPr>
                <p:nvPr/>
              </p:nvCxnSpPr>
              <p:spPr>
                <a:xfrm rot="10800000">
                  <a:off x="1744560" y="3560760"/>
                  <a:ext cx="122400" cy="77508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87" name="_s1043"/>
                <p:cNvCxnSpPr>
                  <a:stCxn id="75" idx="3"/>
                  <a:endCxn id="86" idx="2"/>
                </p:cNvCxnSpPr>
                <p:nvPr/>
              </p:nvCxnSpPr>
              <p:spPr>
                <a:xfrm flipV="1">
                  <a:off x="1623960" y="3560760"/>
                  <a:ext cx="121320" cy="77508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88" name="_s1044"/>
                <p:cNvCxnSpPr>
                  <a:stCxn id="77" idx="0"/>
                  <a:endCxn id="89" idx="2"/>
                </p:cNvCxnSpPr>
                <p:nvPr/>
              </p:nvCxnSpPr>
              <p:spPr>
                <a:xfrm flipV="1" rot="16200000">
                  <a:off x="6613200" y="2130480"/>
                  <a:ext cx="387720" cy="917280"/>
                </a:xfrm>
                <a:prstGeom prst="bentConnector5">
                  <a:avLst>
                    <a:gd name="adj1" fmla="val 359758"/>
                    <a:gd name="adj2" fmla="val 163133"/>
                    <a:gd name="adj3" fmla="val 40148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0" name="_s1045"/>
                <p:cNvCxnSpPr>
                  <a:stCxn id="80" idx="0"/>
                  <a:endCxn id="89" idx="2"/>
                </p:cNvCxnSpPr>
                <p:nvPr/>
              </p:nvCxnSpPr>
              <p:spPr>
                <a:xfrm flipH="1" flipV="1" rot="5400000">
                  <a:off x="5696640" y="2131200"/>
                  <a:ext cx="387720" cy="916560"/>
                </a:xfrm>
                <a:prstGeom prst="bentConnector5">
                  <a:avLst>
                    <a:gd name="adj1" fmla="val 359758"/>
                    <a:gd name="adj2" fmla="val 163222"/>
                    <a:gd name="adj3" fmla="val 40148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1" name="_s1046"/>
                <p:cNvCxnSpPr>
                  <a:stCxn id="83" idx="0"/>
                  <a:endCxn id="92" idx="2"/>
                </p:cNvCxnSpPr>
                <p:nvPr/>
              </p:nvCxnSpPr>
              <p:spPr>
                <a:xfrm flipV="1" rot="16200000">
                  <a:off x="2929680" y="2130120"/>
                  <a:ext cx="387720" cy="918360"/>
                </a:xfrm>
                <a:prstGeom prst="bentConnector5">
                  <a:avLst>
                    <a:gd name="adj1" fmla="val 359758"/>
                    <a:gd name="adj2" fmla="val 163058"/>
                    <a:gd name="adj3" fmla="val 40148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3" name="_s1047"/>
                <p:cNvCxnSpPr>
                  <a:stCxn id="86" idx="0"/>
                  <a:endCxn id="92" idx="2"/>
                </p:cNvCxnSpPr>
                <p:nvPr/>
              </p:nvCxnSpPr>
              <p:spPr>
                <a:xfrm flipH="1" flipV="1" rot="5400000">
                  <a:off x="2010960" y="2129400"/>
                  <a:ext cx="387720" cy="919800"/>
                </a:xfrm>
                <a:prstGeom prst="bentConnector5">
                  <a:avLst>
                    <a:gd name="adj1" fmla="val 359758"/>
                    <a:gd name="adj2" fmla="val 162999"/>
                    <a:gd name="adj3" fmla="val 40148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4" name="_s1048"/>
                <p:cNvCxnSpPr>
                  <a:stCxn id="89" idx="0"/>
                  <a:endCxn id="95" idx="2"/>
                </p:cNvCxnSpPr>
                <p:nvPr/>
              </p:nvCxnSpPr>
              <p:spPr>
                <a:xfrm flipV="1" rot="16200000">
                  <a:off x="5233680" y="505800"/>
                  <a:ext cx="387720" cy="1842840"/>
                </a:xfrm>
                <a:prstGeom prst="bentConnector5">
                  <a:avLst>
                    <a:gd name="adj1" fmla="val 59758"/>
                    <a:gd name="adj2" fmla="val 49570"/>
                    <a:gd name="adj3" fmla="val 40148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6" name="_s1049"/>
                <p:cNvCxnSpPr>
                  <a:stCxn id="92" idx="0"/>
                  <a:endCxn id="95" idx="2"/>
                </p:cNvCxnSpPr>
                <p:nvPr/>
              </p:nvCxnSpPr>
              <p:spPr>
                <a:xfrm flipH="1" flipV="1" rot="5400000">
                  <a:off x="3391560" y="506160"/>
                  <a:ext cx="387720" cy="1842120"/>
                </a:xfrm>
                <a:prstGeom prst="bentConnector5">
                  <a:avLst>
                    <a:gd name="adj1" fmla="val 59758"/>
                    <a:gd name="adj2" fmla="val 49609"/>
                    <a:gd name="adj3" fmla="val 40148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95" name="_s1050"/>
                <p:cNvSpPr/>
                <p:nvPr/>
              </p:nvSpPr>
              <p:spPr>
                <a:xfrm>
                  <a:off x="4143600" y="457200"/>
                  <a:ext cx="725040" cy="776160"/>
                </a:xfrm>
                <a:custGeom>
                  <a:avLst/>
                  <a:gdLst>
                    <a:gd name="textAreaLeft" fmla="*/ 35280 w 725040"/>
                    <a:gd name="textAreaRight" fmla="*/ 689760 w 725040"/>
                    <a:gd name="textAreaTop" fmla="*/ 35280 h 776160"/>
                    <a:gd name="textAreaBottom" fmla="*/ 740880 h 776160"/>
                  </a:gdLst>
                  <a:ahLst/>
                  <a:rect l="textAreaLeft" t="textAreaTop" r="textAreaRight" b="textAreaBottom"/>
                  <a:pathLst>
                    <a:path w="21600" h="23122">
                      <a:moveTo>
                        <a:pt x="3600" y="0"/>
                      </a:moveTo>
                      <a:arcTo wR="3600" hR="3600" stAng="16200000" swAng="-5400000"/>
                      <a:lnTo>
                        <a:pt x="0" y="19522"/>
                      </a:lnTo>
                      <a:arcTo wR="3600" hR="3600" stAng="10800000" swAng="-5400000"/>
                      <a:lnTo>
                        <a:pt x="18000" y="231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7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發燒</a:t>
                  </a:r>
                  <a:endParaRPr b="0" lang="en-US" sz="2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_s1051"/>
                <p:cNvSpPr/>
                <p:nvPr/>
              </p:nvSpPr>
              <p:spPr>
                <a:xfrm>
                  <a:off x="2316960" y="1620720"/>
                  <a:ext cx="694800" cy="774720"/>
                </a:xfrm>
                <a:custGeom>
                  <a:avLst/>
                  <a:gdLst>
                    <a:gd name="textAreaLeft" fmla="*/ 33840 w 694800"/>
                    <a:gd name="textAreaRight" fmla="*/ 660960 w 694800"/>
                    <a:gd name="textAreaTop" fmla="*/ 33840 h 774720"/>
                    <a:gd name="textAreaBottom" fmla="*/ 740880 h 774720"/>
                  </a:gdLst>
                  <a:ahLst/>
                  <a:rect l="textAreaLeft" t="textAreaTop" r="textAreaRight" b="textAreaBottom"/>
                  <a:pathLst>
                    <a:path w="21600" h="24083">
                      <a:moveTo>
                        <a:pt x="3600" y="0"/>
                      </a:moveTo>
                      <a:arcTo wR="3600" hR="3600" stAng="16200000" swAng="-5400000"/>
                      <a:lnTo>
                        <a:pt x="0" y="20483"/>
                      </a:lnTo>
                      <a:arcTo wR="3600" hR="3600" stAng="10800000" swAng="-5400000"/>
                      <a:lnTo>
                        <a:pt x="18000" y="2408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339933"/>
                      </a:solidFill>
                      <a:latin typeface="教育部標準楷書"/>
                      <a:ea typeface="教育部標準楷書"/>
                    </a:rPr>
                    <a:t>有汗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_s1052"/>
                <p:cNvSpPr/>
                <p:nvPr/>
              </p:nvSpPr>
              <p:spPr>
                <a:xfrm>
                  <a:off x="6001200" y="1620720"/>
                  <a:ext cx="694800" cy="774720"/>
                </a:xfrm>
                <a:custGeom>
                  <a:avLst/>
                  <a:gdLst>
                    <a:gd name="textAreaLeft" fmla="*/ 33840 w 694800"/>
                    <a:gd name="textAreaRight" fmla="*/ 660960 w 694800"/>
                    <a:gd name="textAreaTop" fmla="*/ 33840 h 774720"/>
                    <a:gd name="textAreaBottom" fmla="*/ 740880 h 774720"/>
                  </a:gdLst>
                  <a:ahLst/>
                  <a:rect l="textAreaLeft" t="textAreaTop" r="textAreaRight" b="textAreaBottom"/>
                  <a:pathLst>
                    <a:path w="21600" h="24083">
                      <a:moveTo>
                        <a:pt x="3600" y="0"/>
                      </a:moveTo>
                      <a:arcTo wR="3600" hR="3600" stAng="16200000" swAng="-5400000"/>
                      <a:lnTo>
                        <a:pt x="0" y="20483"/>
                      </a:lnTo>
                      <a:arcTo wR="3600" hR="3600" stAng="10800000" swAng="-5400000"/>
                      <a:lnTo>
                        <a:pt x="18000" y="2408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400" spc="-1" strike="noStrike">
                      <a:solidFill>
                        <a:srgbClr val="339933"/>
                      </a:solidFill>
                      <a:latin typeface="教育部標準楷書"/>
                      <a:ea typeface="教育部標準楷書"/>
                    </a:rPr>
                    <a:t>無汗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_s1053"/>
                <p:cNvSpPr/>
                <p:nvPr/>
              </p:nvSpPr>
              <p:spPr>
                <a:xfrm>
                  <a:off x="1378440" y="2782800"/>
                  <a:ext cx="733320" cy="777960"/>
                </a:xfrm>
                <a:custGeom>
                  <a:avLst/>
                  <a:gdLst>
                    <a:gd name="textAreaLeft" fmla="*/ 35640 w 733320"/>
                    <a:gd name="textAreaRight" fmla="*/ 697680 w 733320"/>
                    <a:gd name="textAreaTop" fmla="*/ 35640 h 777960"/>
                    <a:gd name="textAreaBottom" fmla="*/ 742320 h 777960"/>
                  </a:gdLst>
                  <a:ahLst/>
                  <a:rect l="textAreaLeft" t="textAreaTop" r="textAreaRight" b="textAreaBottom"/>
                  <a:pathLst>
                    <a:path w="21600" h="22914">
                      <a:moveTo>
                        <a:pt x="3600" y="0"/>
                      </a:moveTo>
                      <a:arcTo wR="3600" hR="3600" stAng="16200000" swAng="-5400000"/>
                      <a:lnTo>
                        <a:pt x="0" y="19314"/>
                      </a:lnTo>
                      <a:arcTo wR="3600" hR="3600" stAng="10800000" swAng="-5400000"/>
                      <a:lnTo>
                        <a:pt x="18000" y="229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100" spc="-1" strike="noStrike">
                      <a:solidFill>
                        <a:srgbClr val="3333ff"/>
                      </a:solidFill>
                      <a:latin typeface="教育部標準楷書"/>
                      <a:ea typeface="教育部標準楷書"/>
                    </a:rPr>
                    <a:t>咳嗽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_s1054"/>
                <p:cNvSpPr/>
                <p:nvPr/>
              </p:nvSpPr>
              <p:spPr>
                <a:xfrm>
                  <a:off x="3214080" y="2782800"/>
                  <a:ext cx="736560" cy="777960"/>
                </a:xfrm>
                <a:custGeom>
                  <a:avLst/>
                  <a:gdLst>
                    <a:gd name="textAreaLeft" fmla="*/ 35640 w 736560"/>
                    <a:gd name="textAreaRight" fmla="*/ 700920 w 736560"/>
                    <a:gd name="textAreaTop" fmla="*/ 35640 h 777960"/>
                    <a:gd name="textAreaBottom" fmla="*/ 742320 h 777960"/>
                  </a:gdLst>
                  <a:ahLst/>
                  <a:rect l="textAreaLeft" t="textAreaTop" r="textAreaRight" b="textAreaBottom"/>
                  <a:pathLst>
                    <a:path w="21600" h="22813">
                      <a:moveTo>
                        <a:pt x="3600" y="0"/>
                      </a:moveTo>
                      <a:arcTo wR="3600" hR="3600" stAng="16200000" swAng="-5400000"/>
                      <a:lnTo>
                        <a:pt x="0" y="19213"/>
                      </a:lnTo>
                      <a:arcTo wR="3600" hR="3600" stAng="10800000" swAng="-5400000"/>
                      <a:lnTo>
                        <a:pt x="18000" y="2281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3333ff"/>
                      </a:solidFill>
                      <a:latin typeface="教育部標準楷書"/>
                      <a:ea typeface="教育部標準楷書"/>
                    </a:rPr>
                    <a:t>無咳嗽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_s1055"/>
                <p:cNvSpPr/>
                <p:nvPr/>
              </p:nvSpPr>
              <p:spPr>
                <a:xfrm>
                  <a:off x="5064480" y="2782800"/>
                  <a:ext cx="736200" cy="777960"/>
                </a:xfrm>
                <a:custGeom>
                  <a:avLst/>
                  <a:gdLst>
                    <a:gd name="textAreaLeft" fmla="*/ 35640 w 736200"/>
                    <a:gd name="textAreaRight" fmla="*/ 700560 w 736200"/>
                    <a:gd name="textAreaTop" fmla="*/ 35640 h 777960"/>
                    <a:gd name="textAreaBottom" fmla="*/ 742320 h 777960"/>
                  </a:gdLst>
                  <a:ahLst/>
                  <a:rect l="textAreaLeft" t="textAreaTop" r="textAreaRight" b="textAreaBottom"/>
                  <a:pathLst>
                    <a:path w="21600" h="22825">
                      <a:moveTo>
                        <a:pt x="3600" y="0"/>
                      </a:moveTo>
                      <a:arcTo wR="3600" hR="3600" stAng="16200000" swAng="-5400000"/>
                      <a:lnTo>
                        <a:pt x="0" y="19225"/>
                      </a:lnTo>
                      <a:arcTo wR="3600" hR="3600" stAng="10800000" swAng="-5400000"/>
                      <a:lnTo>
                        <a:pt x="18000" y="2282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100" spc="-1" strike="noStrike">
                      <a:solidFill>
                        <a:srgbClr val="3333ff"/>
                      </a:solidFill>
                      <a:latin typeface="教育部標準楷書"/>
                      <a:ea typeface="教育部標準楷書"/>
                    </a:rPr>
                    <a:t>咳嗽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_s1056"/>
                <p:cNvSpPr/>
                <p:nvPr/>
              </p:nvSpPr>
              <p:spPr>
                <a:xfrm>
                  <a:off x="6898320" y="2782800"/>
                  <a:ext cx="734760" cy="777960"/>
                </a:xfrm>
                <a:custGeom>
                  <a:avLst/>
                  <a:gdLst>
                    <a:gd name="textAreaLeft" fmla="*/ 35640 w 734760"/>
                    <a:gd name="textAreaRight" fmla="*/ 699120 w 734760"/>
                    <a:gd name="textAreaTop" fmla="*/ 35640 h 777960"/>
                    <a:gd name="textAreaBottom" fmla="*/ 742320 h 777960"/>
                  </a:gdLst>
                  <a:ahLst/>
                  <a:rect l="textAreaLeft" t="textAreaTop" r="textAreaRight" b="textAreaBottom"/>
                  <a:pathLst>
                    <a:path w="21600" h="22869">
                      <a:moveTo>
                        <a:pt x="3600" y="0"/>
                      </a:moveTo>
                      <a:arcTo wR="3600" hR="3600" stAng="16200000" swAng="-5400000"/>
                      <a:lnTo>
                        <a:pt x="0" y="19269"/>
                      </a:lnTo>
                      <a:arcTo wR="3600" hR="3600" stAng="10800000" swAng="-5400000"/>
                      <a:lnTo>
                        <a:pt x="18000" y="22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3333ff"/>
                      </a:solidFill>
                      <a:latin typeface="教育部標準楷書"/>
                      <a:ea typeface="教育部標準楷書"/>
                    </a:rPr>
                    <a:t>無咳嗽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_s1057"/>
                <p:cNvSpPr/>
                <p:nvPr/>
              </p:nvSpPr>
              <p:spPr>
                <a:xfrm>
                  <a:off x="884160" y="3948120"/>
                  <a:ext cx="739800" cy="774720"/>
                </a:xfrm>
                <a:custGeom>
                  <a:avLst/>
                  <a:gdLst>
                    <a:gd name="textAreaLeft" fmla="*/ 36000 w 739800"/>
                    <a:gd name="textAreaRight" fmla="*/ 703800 w 739800"/>
                    <a:gd name="textAreaTop" fmla="*/ 36000 h 774720"/>
                    <a:gd name="textAreaBottom" fmla="*/ 738720 h 774720"/>
                  </a:gdLst>
                  <a:ahLst/>
                  <a:rect l="textAreaLeft" t="textAreaTop" r="textAreaRight" b="textAreaBottom"/>
                  <a:pathLst>
                    <a:path w="21600" h="22619">
                      <a:moveTo>
                        <a:pt x="3600" y="0"/>
                      </a:moveTo>
                      <a:arcTo wR="3600" hR="3600" stAng="16200000" swAng="-5400000"/>
                      <a:lnTo>
                        <a:pt x="0" y="19019"/>
                      </a:lnTo>
                      <a:arcTo wR="3600" hR="3600" stAng="10800000" swAng="-5400000"/>
                      <a:lnTo>
                        <a:pt x="18000" y="226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口渴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黃痰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黃鼻涕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_s1058"/>
                <p:cNvSpPr/>
                <p:nvPr/>
              </p:nvSpPr>
              <p:spPr>
                <a:xfrm>
                  <a:off x="1866960" y="3948120"/>
                  <a:ext cx="733320" cy="774720"/>
                </a:xfrm>
                <a:custGeom>
                  <a:avLst/>
                  <a:gdLst>
                    <a:gd name="textAreaLeft" fmla="*/ 35640 w 733320"/>
                    <a:gd name="textAreaRight" fmla="*/ 697680 w 733320"/>
                    <a:gd name="textAreaTop" fmla="*/ 35640 h 774720"/>
                    <a:gd name="textAreaBottom" fmla="*/ 739080 h 774720"/>
                  </a:gdLst>
                  <a:ahLst/>
                  <a:rect l="textAreaLeft" t="textAreaTop" r="textAreaRight" b="textAreaBottom"/>
                  <a:pathLst>
                    <a:path w="21600" h="22819">
                      <a:moveTo>
                        <a:pt x="3600" y="0"/>
                      </a:moveTo>
                      <a:arcTo wR="3600" hR="3600" stAng="16200000" swAng="-5400000"/>
                      <a:lnTo>
                        <a:pt x="0" y="19219"/>
                      </a:lnTo>
                      <a:arcTo wR="3600" hR="3600" stAng="10800000" swAng="-5400000"/>
                      <a:lnTo>
                        <a:pt x="18000" y="228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怕冷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口不渴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白痰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白鼻涕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_s1059"/>
                <p:cNvSpPr/>
                <p:nvPr/>
              </p:nvSpPr>
              <p:spPr>
                <a:xfrm>
                  <a:off x="2721240" y="3948120"/>
                  <a:ext cx="738000" cy="774720"/>
                </a:xfrm>
                <a:custGeom>
                  <a:avLst/>
                  <a:gdLst>
                    <a:gd name="textAreaLeft" fmla="*/ 36000 w 738000"/>
                    <a:gd name="textAreaRight" fmla="*/ 702000 w 738000"/>
                    <a:gd name="textAreaTop" fmla="*/ 36000 h 774720"/>
                    <a:gd name="textAreaBottom" fmla="*/ 738720 h 774720"/>
                  </a:gdLst>
                  <a:ahLst/>
                  <a:rect l="textAreaLeft" t="textAreaTop" r="textAreaRight" b="textAreaBottom"/>
                  <a:pathLst>
                    <a:path w="21600" h="22674">
                      <a:moveTo>
                        <a:pt x="3600" y="0"/>
                      </a:moveTo>
                      <a:arcTo wR="3600" hR="3600" stAng="16200000" swAng="-5400000"/>
                      <a:lnTo>
                        <a:pt x="0" y="19074"/>
                      </a:lnTo>
                      <a:arcTo wR="3600" hR="3600" stAng="10800000" swAng="-5400000"/>
                      <a:lnTo>
                        <a:pt x="18000" y="2267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怕冷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口渴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_s1060"/>
                <p:cNvSpPr/>
                <p:nvPr/>
              </p:nvSpPr>
              <p:spPr>
                <a:xfrm>
                  <a:off x="3702600" y="3948120"/>
                  <a:ext cx="742680" cy="774720"/>
                </a:xfrm>
                <a:custGeom>
                  <a:avLst/>
                  <a:gdLst>
                    <a:gd name="textAreaLeft" fmla="*/ 36000 w 742680"/>
                    <a:gd name="textAreaRight" fmla="*/ 706680 w 742680"/>
                    <a:gd name="textAreaTop" fmla="*/ 36000 h 774720"/>
                    <a:gd name="textAreaBottom" fmla="*/ 738720 h 774720"/>
                  </a:gdLst>
                  <a:ahLst/>
                  <a:rect l="textAreaLeft" t="textAreaTop" r="textAreaRight" b="textAreaBottom"/>
                  <a:pathLst>
                    <a:path w="21600" h="22531">
                      <a:moveTo>
                        <a:pt x="3600" y="0"/>
                      </a:moveTo>
                      <a:arcTo wR="3600" hR="3600" stAng="16200000" swAng="-5400000"/>
                      <a:lnTo>
                        <a:pt x="0" y="18931"/>
                      </a:lnTo>
                      <a:arcTo wR="3600" hR="3600" stAng="10800000" swAng="-5400000"/>
                      <a:lnTo>
                        <a:pt x="18000" y="2253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怕冷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口不渴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_s1061"/>
                <p:cNvSpPr/>
                <p:nvPr/>
              </p:nvSpPr>
              <p:spPr>
                <a:xfrm>
                  <a:off x="4566600" y="3948120"/>
                  <a:ext cx="744120" cy="774720"/>
                </a:xfrm>
                <a:custGeom>
                  <a:avLst/>
                  <a:gdLst>
                    <a:gd name="textAreaLeft" fmla="*/ 36000 w 744120"/>
                    <a:gd name="textAreaRight" fmla="*/ 708120 w 744120"/>
                    <a:gd name="textAreaTop" fmla="*/ 36000 h 774720"/>
                    <a:gd name="textAreaBottom" fmla="*/ 738720 h 774720"/>
                  </a:gdLst>
                  <a:ahLst/>
                  <a:rect l="textAreaLeft" t="textAreaTop" r="textAreaRight" b="textAreaBottom"/>
                  <a:pathLst>
                    <a:path w="21600" h="22488">
                      <a:moveTo>
                        <a:pt x="3600" y="0"/>
                      </a:moveTo>
                      <a:arcTo wR="3600" hR="3600" stAng="16200000" swAng="-5400000"/>
                      <a:lnTo>
                        <a:pt x="0" y="18888"/>
                      </a:lnTo>
                      <a:arcTo wR="3600" hR="3600" stAng="10800000" swAng="-5400000"/>
                      <a:lnTo>
                        <a:pt x="18000" y="2248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怕冷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口渴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黃痰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黃鼻涕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_s1062"/>
                <p:cNvSpPr/>
                <p:nvPr/>
              </p:nvSpPr>
              <p:spPr>
                <a:xfrm>
                  <a:off x="5552640" y="3948120"/>
                  <a:ext cx="738000" cy="774720"/>
                </a:xfrm>
                <a:custGeom>
                  <a:avLst/>
                  <a:gdLst>
                    <a:gd name="textAreaLeft" fmla="*/ 36000 w 738000"/>
                    <a:gd name="textAreaRight" fmla="*/ 702000 w 738000"/>
                    <a:gd name="textAreaTop" fmla="*/ 36000 h 774720"/>
                    <a:gd name="textAreaBottom" fmla="*/ 738720 h 774720"/>
                  </a:gdLst>
                  <a:ahLst/>
                  <a:rect l="textAreaLeft" t="textAreaTop" r="textAreaRight" b="textAreaBottom"/>
                  <a:pathLst>
                    <a:path w="21600" h="22674">
                      <a:moveTo>
                        <a:pt x="3600" y="0"/>
                      </a:moveTo>
                      <a:arcTo wR="3600" hR="3600" stAng="16200000" swAng="-5400000"/>
                      <a:lnTo>
                        <a:pt x="0" y="19074"/>
                      </a:lnTo>
                      <a:arcTo wR="3600" hR="3600" stAng="10800000" swAng="-5400000"/>
                      <a:lnTo>
                        <a:pt x="18000" y="2267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怕冷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口不渴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白痰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白鼻涕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_s1063"/>
                <p:cNvSpPr/>
                <p:nvPr/>
              </p:nvSpPr>
              <p:spPr>
                <a:xfrm>
                  <a:off x="6411600" y="3948120"/>
                  <a:ext cx="733320" cy="774720"/>
                </a:xfrm>
                <a:custGeom>
                  <a:avLst/>
                  <a:gdLst>
                    <a:gd name="textAreaLeft" fmla="*/ 35640 w 733320"/>
                    <a:gd name="textAreaRight" fmla="*/ 697680 w 733320"/>
                    <a:gd name="textAreaTop" fmla="*/ 35640 h 774720"/>
                    <a:gd name="textAreaBottom" fmla="*/ 739080 h 774720"/>
                  </a:gdLst>
                  <a:ahLst/>
                  <a:rect l="textAreaLeft" t="textAreaTop" r="textAreaRight" b="textAreaBottom"/>
                  <a:pathLst>
                    <a:path w="21600" h="22819">
                      <a:moveTo>
                        <a:pt x="3600" y="0"/>
                      </a:moveTo>
                      <a:arcTo wR="3600" hR="3600" stAng="16200000" swAng="-5400000"/>
                      <a:lnTo>
                        <a:pt x="0" y="19219"/>
                      </a:lnTo>
                      <a:arcTo wR="3600" hR="3600" stAng="10800000" swAng="-5400000"/>
                      <a:lnTo>
                        <a:pt x="18000" y="228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怕冷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口渴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_s1064"/>
                <p:cNvSpPr/>
                <p:nvPr/>
              </p:nvSpPr>
              <p:spPr>
                <a:xfrm>
                  <a:off x="7386480" y="3948120"/>
                  <a:ext cx="738000" cy="774720"/>
                </a:xfrm>
                <a:custGeom>
                  <a:avLst/>
                  <a:gdLst>
                    <a:gd name="textAreaLeft" fmla="*/ 36000 w 738000"/>
                    <a:gd name="textAreaRight" fmla="*/ 702000 w 738000"/>
                    <a:gd name="textAreaTop" fmla="*/ 36000 h 774720"/>
                    <a:gd name="textAreaBottom" fmla="*/ 738720 h 774720"/>
                  </a:gdLst>
                  <a:ahLst/>
                  <a:rect l="textAreaLeft" t="textAreaTop" r="textAreaRight" b="textAreaBottom"/>
                  <a:pathLst>
                    <a:path w="21600" h="22674">
                      <a:moveTo>
                        <a:pt x="3600" y="0"/>
                      </a:moveTo>
                      <a:arcTo wR="3600" hR="3600" stAng="16200000" swAng="-5400000"/>
                      <a:lnTo>
                        <a:pt x="0" y="19074"/>
                      </a:lnTo>
                      <a:arcTo wR="3600" hR="3600" stAng="10800000" swAng="-5400000"/>
                      <a:lnTo>
                        <a:pt x="18000" y="2267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怕冷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3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口不渴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_s1065"/>
                <p:cNvSpPr/>
                <p:nvPr/>
              </p:nvSpPr>
              <p:spPr>
                <a:xfrm>
                  <a:off x="884160" y="5110200"/>
                  <a:ext cx="739800" cy="776160"/>
                </a:xfrm>
                <a:custGeom>
                  <a:avLst/>
                  <a:gdLst>
                    <a:gd name="textAreaLeft" fmla="*/ 36000 w 739800"/>
                    <a:gd name="textAreaRight" fmla="*/ 703800 w 739800"/>
                    <a:gd name="textAreaTop" fmla="*/ 36000 h 776160"/>
                    <a:gd name="textAreaBottom" fmla="*/ 740160 h 776160"/>
                  </a:gdLst>
                  <a:ahLst/>
                  <a:rect l="textAreaLeft" t="textAreaTop" r="textAreaRight" b="textAreaBottom"/>
                  <a:pathLst>
                    <a:path w="21600" h="22661">
                      <a:moveTo>
                        <a:pt x="3600" y="0"/>
                      </a:moveTo>
                      <a:arcTo wR="3600" hR="3600" stAng="16200000" swAng="-5400000"/>
                      <a:lnTo>
                        <a:pt x="0" y="19061"/>
                      </a:lnTo>
                      <a:arcTo wR="3600" hR="3600" stAng="10800000" swAng="-5400000"/>
                      <a:lnTo>
                        <a:pt x="18000" y="2266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2" action="ppaction://hlinksldjump"/>
                    </a:rPr>
                    <a:t>麻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3" action="ppaction://hlinksldjump"/>
                    </a:rPr>
                    <a:t>甘石湯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_s1066"/>
                <p:cNvSpPr/>
                <p:nvPr/>
              </p:nvSpPr>
              <p:spPr>
                <a:xfrm>
                  <a:off x="1865520" y="5110200"/>
                  <a:ext cx="734760" cy="776160"/>
                </a:xfrm>
                <a:custGeom>
                  <a:avLst/>
                  <a:gdLst>
                    <a:gd name="textAreaLeft" fmla="*/ 35640 w 734760"/>
                    <a:gd name="textAreaRight" fmla="*/ 699120 w 734760"/>
                    <a:gd name="textAreaTop" fmla="*/ 35640 h 776160"/>
                    <a:gd name="textAreaBottom" fmla="*/ 740520 h 776160"/>
                  </a:gdLst>
                  <a:ahLst/>
                  <a:rect l="textAreaLeft" t="textAreaTop" r="textAreaRight" b="textAreaBottom"/>
                  <a:pathLst>
                    <a:path w="21600" h="22816">
                      <a:moveTo>
                        <a:pt x="3600" y="0"/>
                      </a:moveTo>
                      <a:arcTo wR="3600" hR="3600" stAng="16200000" swAng="-5400000"/>
                      <a:lnTo>
                        <a:pt x="0" y="19216"/>
                      </a:lnTo>
                      <a:arcTo wR="3600" hR="3600" stAng="10800000" swAng="-5400000"/>
                      <a:lnTo>
                        <a:pt x="18000" y="2281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4" action="ppaction://hlinksldjump"/>
                    </a:rPr>
                    <a:t>桂枝湯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5" action="ppaction://hlinksldjump"/>
                    </a:rPr>
                    <a:t>+</a:t>
                  </a:r>
                  <a:r>
                    <a:rPr b="0" lang="zh-TW" sz="17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6" action="ppaction://hlinksldjump"/>
                    </a:rPr>
                    <a:t>厚朴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7" action="ppaction://hlinksldjump"/>
                    </a:rPr>
                    <a:t>+</a:t>
                  </a:r>
                  <a:r>
                    <a:rPr b="0" lang="zh-TW" sz="17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8" action="ppaction://hlinksldjump"/>
                    </a:rPr>
                    <a:t>杏仁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_s1067"/>
                <p:cNvSpPr/>
                <p:nvPr/>
              </p:nvSpPr>
              <p:spPr>
                <a:xfrm>
                  <a:off x="2721240" y="5110200"/>
                  <a:ext cx="739800" cy="776160"/>
                </a:xfrm>
                <a:custGeom>
                  <a:avLst/>
                  <a:gdLst>
                    <a:gd name="textAreaLeft" fmla="*/ 36000 w 739800"/>
                    <a:gd name="textAreaRight" fmla="*/ 703800 w 739800"/>
                    <a:gd name="textAreaTop" fmla="*/ 36000 h 776160"/>
                    <a:gd name="textAreaBottom" fmla="*/ 740160 h 776160"/>
                  </a:gdLst>
                  <a:ahLst/>
                  <a:rect l="textAreaLeft" t="textAreaTop" r="textAreaRight" b="textAreaBottom"/>
                  <a:pathLst>
                    <a:path w="21600" h="22661">
                      <a:moveTo>
                        <a:pt x="3600" y="0"/>
                      </a:moveTo>
                      <a:arcTo wR="3600" hR="3600" stAng="16200000" swAng="-5400000"/>
                      <a:lnTo>
                        <a:pt x="0" y="19061"/>
                      </a:lnTo>
                      <a:arcTo wR="3600" hR="3600" stAng="10800000" swAng="-5400000"/>
                      <a:lnTo>
                        <a:pt x="18000" y="2266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9" action="ppaction://hlinksldjump"/>
                    </a:rPr>
                    <a:t>桂枝湯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10" action="ppaction://hlinksldjump"/>
                    </a:rPr>
                    <a:t>+</a:t>
                  </a: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11" action="ppaction://hlinksldjump"/>
                    </a:rPr>
                    <a:t>葛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_s1068"/>
                <p:cNvSpPr/>
                <p:nvPr/>
              </p:nvSpPr>
              <p:spPr>
                <a:xfrm>
                  <a:off x="3702600" y="5110200"/>
                  <a:ext cx="741240" cy="776160"/>
                </a:xfrm>
                <a:custGeom>
                  <a:avLst/>
                  <a:gdLst>
                    <a:gd name="textAreaLeft" fmla="*/ 36000 w 741240"/>
                    <a:gd name="textAreaRight" fmla="*/ 705240 w 741240"/>
                    <a:gd name="textAreaTop" fmla="*/ 36000 h 776160"/>
                    <a:gd name="textAreaBottom" fmla="*/ 740160 h 776160"/>
                  </a:gdLst>
                  <a:ahLst/>
                  <a:rect l="textAreaLeft" t="textAreaTop" r="textAreaRight" b="textAreaBottom"/>
                  <a:pathLst>
                    <a:path w="21600" h="22617">
                      <a:moveTo>
                        <a:pt x="3600" y="0"/>
                      </a:moveTo>
                      <a:arcTo wR="3600" hR="3600" stAng="16200000" swAng="-5400000"/>
                      <a:lnTo>
                        <a:pt x="0" y="19017"/>
                      </a:lnTo>
                      <a:arcTo wR="3600" hR="3600" stAng="10800000" swAng="-5400000"/>
                      <a:lnTo>
                        <a:pt x="18000" y="2261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12" action="ppaction://hlinksldjump"/>
                    </a:rPr>
                    <a:t>桂枝湯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_s1069"/>
                <p:cNvSpPr/>
                <p:nvPr/>
              </p:nvSpPr>
              <p:spPr>
                <a:xfrm>
                  <a:off x="4566600" y="5110200"/>
                  <a:ext cx="744120" cy="776160"/>
                </a:xfrm>
                <a:custGeom>
                  <a:avLst/>
                  <a:gdLst>
                    <a:gd name="textAreaLeft" fmla="*/ 36000 w 744120"/>
                    <a:gd name="textAreaRight" fmla="*/ 708120 w 744120"/>
                    <a:gd name="textAreaTop" fmla="*/ 36000 h 776160"/>
                    <a:gd name="textAreaBottom" fmla="*/ 740160 h 776160"/>
                  </a:gdLst>
                  <a:ahLst/>
                  <a:rect l="textAreaLeft" t="textAreaTop" r="textAreaRight" b="textAreaBottom"/>
                  <a:pathLst>
                    <a:path w="21600" h="22530">
                      <a:moveTo>
                        <a:pt x="3600" y="0"/>
                      </a:moveTo>
                      <a:arcTo wR="3600" hR="3600" stAng="16200000" swAng="-5400000"/>
                      <a:lnTo>
                        <a:pt x="0" y="18930"/>
                      </a:lnTo>
                      <a:arcTo wR="3600" hR="3600" stAng="10800000" swAng="-5400000"/>
                      <a:lnTo>
                        <a:pt x="18000" y="225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13" action="ppaction://hlinksldjump"/>
                    </a:rPr>
                    <a:t>大青龍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14" action="ppaction://hlinksldjump"/>
                    </a:rPr>
                    <a:t>湯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_s1070"/>
                <p:cNvSpPr/>
                <p:nvPr/>
              </p:nvSpPr>
              <p:spPr>
                <a:xfrm>
                  <a:off x="5552640" y="5110200"/>
                  <a:ext cx="738000" cy="776160"/>
                </a:xfrm>
                <a:custGeom>
                  <a:avLst/>
                  <a:gdLst>
                    <a:gd name="textAreaLeft" fmla="*/ 36000 w 738000"/>
                    <a:gd name="textAreaRight" fmla="*/ 702000 w 738000"/>
                    <a:gd name="textAreaTop" fmla="*/ 36000 h 776160"/>
                    <a:gd name="textAreaBottom" fmla="*/ 740160 h 776160"/>
                  </a:gdLst>
                  <a:ahLst/>
                  <a:rect l="textAreaLeft" t="textAreaTop" r="textAreaRight" b="textAreaBottom"/>
                  <a:pathLst>
                    <a:path w="21600" h="22716">
                      <a:moveTo>
                        <a:pt x="3600" y="0"/>
                      </a:moveTo>
                      <a:arcTo wR="3600" hR="3600" stAng="16200000" swAng="-5400000"/>
                      <a:lnTo>
                        <a:pt x="0" y="19116"/>
                      </a:lnTo>
                      <a:arcTo wR="3600" hR="3600" stAng="10800000" swAng="-5400000"/>
                      <a:lnTo>
                        <a:pt x="18000" y="2271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15" action="ppaction://hlinksldjump"/>
                    </a:rPr>
                    <a:t>小青龍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16" action="ppaction://hlinksldjump"/>
                    </a:rPr>
                    <a:t>湯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_s1071"/>
                <p:cNvSpPr/>
                <p:nvPr/>
              </p:nvSpPr>
              <p:spPr>
                <a:xfrm>
                  <a:off x="6411600" y="5110200"/>
                  <a:ext cx="733320" cy="776160"/>
                </a:xfrm>
                <a:custGeom>
                  <a:avLst/>
                  <a:gdLst>
                    <a:gd name="textAreaLeft" fmla="*/ 35640 w 733320"/>
                    <a:gd name="textAreaRight" fmla="*/ 697680 w 733320"/>
                    <a:gd name="textAreaTop" fmla="*/ 35640 h 776160"/>
                    <a:gd name="textAreaBottom" fmla="*/ 740520 h 776160"/>
                  </a:gdLst>
                  <a:ahLst/>
                  <a:rect l="textAreaLeft" t="textAreaTop" r="textAreaRight" b="textAreaBottom"/>
                  <a:pathLst>
                    <a:path w="21600" h="22861">
                      <a:moveTo>
                        <a:pt x="3600" y="0"/>
                      </a:moveTo>
                      <a:arcTo wR="3600" hR="3600" stAng="16200000" swAng="-5400000"/>
                      <a:lnTo>
                        <a:pt x="0" y="19261"/>
                      </a:lnTo>
                      <a:arcTo wR="3600" hR="3600" stAng="10800000" swAng="-5400000"/>
                      <a:lnTo>
                        <a:pt x="18000" y="2286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17" action="ppaction://hlinksldjump"/>
                    </a:rPr>
                    <a:t>葛根湯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_s1072"/>
                <p:cNvSpPr/>
                <p:nvPr/>
              </p:nvSpPr>
              <p:spPr>
                <a:xfrm>
                  <a:off x="7386480" y="5110200"/>
                  <a:ext cx="738000" cy="776160"/>
                </a:xfrm>
                <a:custGeom>
                  <a:avLst/>
                  <a:gdLst>
                    <a:gd name="textAreaLeft" fmla="*/ 36000 w 738000"/>
                    <a:gd name="textAreaRight" fmla="*/ 702000 w 738000"/>
                    <a:gd name="textAreaTop" fmla="*/ 36000 h 776160"/>
                    <a:gd name="textAreaBottom" fmla="*/ 740160 h 776160"/>
                  </a:gdLst>
                  <a:ahLst/>
                  <a:rect l="textAreaLeft" t="textAreaTop" r="textAreaRight" b="textAreaBottom"/>
                  <a:pathLst>
                    <a:path w="21600" h="22716">
                      <a:moveTo>
                        <a:pt x="3600" y="0"/>
                      </a:moveTo>
                      <a:arcTo wR="3600" hR="3600" stAng="16200000" swAng="-5400000"/>
                      <a:lnTo>
                        <a:pt x="0" y="19116"/>
                      </a:lnTo>
                      <a:arcTo wR="3600" hR="3600" stAng="10800000" swAng="-5400000"/>
                      <a:lnTo>
                        <a:pt x="18000" y="2271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 u="sng">
                      <a:solidFill>
                        <a:srgbClr val="009999"/>
                      </a:solidFill>
                      <a:uFillTx/>
                      <a:latin typeface="教育部標準楷書"/>
                      <a:ea typeface="教育部標準楷書"/>
                      <a:hlinkClick r:id="rId18" action="ppaction://hlinksldjump"/>
                    </a:rPr>
                    <a:t>麻黃湯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52"/>
                <p:cNvSpPr/>
                <p:nvPr/>
              </p:nvSpPr>
              <p:spPr>
                <a:xfrm flipV="1">
                  <a:off x="947520" y="1504800"/>
                  <a:ext cx="175284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91"/>
                <p:cNvSpPr/>
                <p:nvPr/>
              </p:nvSpPr>
              <p:spPr>
                <a:xfrm>
                  <a:off x="960480" y="1523880"/>
                  <a:ext cx="144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92"/>
                <p:cNvSpPr/>
                <p:nvPr/>
              </p:nvSpPr>
              <p:spPr>
                <a:xfrm flipV="1">
                  <a:off x="6355800" y="1497960"/>
                  <a:ext cx="17542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8123040" y="1485720"/>
                  <a:ext cx="14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53"/>
                <p:cNvSpPr/>
                <p:nvPr/>
              </p:nvSpPr>
              <p:spPr>
                <a:xfrm>
                  <a:off x="2484000" y="457200"/>
                  <a:ext cx="3809520" cy="77616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4800" spc="-1" strike="noStrike">
                      <a:solidFill>
                        <a:srgbClr val="ff0000"/>
                      </a:solidFill>
                      <a:latin typeface="教育部標準楷書"/>
                      <a:ea typeface="教育部標準楷書"/>
                    </a:rPr>
                    <a:t>發   燒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Line 56"/>
              <p:cNvSpPr/>
              <p:nvPr/>
            </p:nvSpPr>
            <p:spPr>
              <a:xfrm>
                <a:off x="350640" y="2971800"/>
                <a:ext cx="0" cy="213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_s1070"/>
              <p:cNvSpPr/>
              <p:nvPr/>
            </p:nvSpPr>
            <p:spPr>
              <a:xfrm>
                <a:off x="8300880" y="5105160"/>
                <a:ext cx="735120" cy="776520"/>
              </a:xfrm>
              <a:custGeom>
                <a:avLst/>
                <a:gdLst>
                  <a:gd name="textAreaLeft" fmla="*/ 35640 w 735120"/>
                  <a:gd name="textAreaRight" fmla="*/ 699480 w 735120"/>
                  <a:gd name="textAreaTop" fmla="*/ 35640 h 776520"/>
                  <a:gd name="textAreaBottom" fmla="*/ 740880 h 776520"/>
                </a:gdLst>
                <a:ahLst/>
                <a:rect l="textAreaLeft" t="textAreaTop" r="textAreaRight" b="textAreaBottom"/>
                <a:pathLst>
                  <a:path w="21600" h="22816">
                    <a:moveTo>
                      <a:pt x="3600" y="0"/>
                    </a:moveTo>
                    <a:arcTo wR="3600" hR="3600" stAng="16200000" swAng="-5400000"/>
                    <a:lnTo>
                      <a:pt x="0" y="19216"/>
                    </a:lnTo>
                    <a:arcTo wR="3600" hR="3600" stAng="10800000" swAng="-5400000"/>
                    <a:lnTo>
                      <a:pt x="18000" y="228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 u="sng">
                    <a:solidFill>
                      <a:srgbClr val="009999"/>
                    </a:solidFill>
                    <a:uFillTx/>
                    <a:latin typeface="教育部標準楷書"/>
                    <a:ea typeface="教育部標準楷書"/>
                    <a:hlinkClick r:id="rId19" action="ppaction://hlinksldjump"/>
                  </a:rPr>
                  <a:t>小柴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 u="sng">
                    <a:solidFill>
                      <a:srgbClr val="009999"/>
                    </a:solidFill>
                    <a:uFillTx/>
                    <a:latin typeface="教育部標準楷書"/>
                    <a:ea typeface="教育部標準楷書"/>
                    <a:hlinkClick r:id="rId20" action="ppaction://hlinksldjump"/>
                  </a:rPr>
                  <a:t>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AutoShape 53"/>
              <p:cNvSpPr/>
              <p:nvPr/>
            </p:nvSpPr>
            <p:spPr>
              <a:xfrm>
                <a:off x="46080" y="1614240"/>
                <a:ext cx="1751040" cy="762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339933"/>
                    </a:solidFill>
                    <a:latin typeface="教育部標準楷書"/>
                    <a:ea typeface="教育部標準楷書"/>
                  </a:rPr>
                  <a:t>腸胃型感冒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339933"/>
                    </a:solidFill>
                    <a:latin typeface="教育部標準楷書"/>
                    <a:ea typeface="教育部標準楷書"/>
                  </a:rPr>
                  <a:t>上吐下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_s1052"/>
              <p:cNvSpPr/>
              <p:nvPr/>
            </p:nvSpPr>
            <p:spPr>
              <a:xfrm>
                <a:off x="7272360" y="1600200"/>
                <a:ext cx="1747800" cy="761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339933"/>
                    </a:solidFill>
                    <a:latin typeface="教育部標準楷書"/>
                    <a:ea typeface="教育部標準楷書"/>
                  </a:rPr>
                  <a:t>女子經期感冒</a:t>
                </a:r>
                <a:r>
                  <a:rPr b="1" lang="en-US" sz="2000" spc="-1" strike="noStrike">
                    <a:solidFill>
                      <a:srgbClr val="339933"/>
                    </a:solidFill>
                    <a:latin typeface="教育部標準楷書"/>
                    <a:ea typeface="教育部標準楷書"/>
                  </a:rPr>
                  <a:t>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339933"/>
                    </a:solidFill>
                    <a:latin typeface="教育部標準楷書"/>
                    <a:ea typeface="教育部標準楷書"/>
                  </a:rPr>
                  <a:t>忽冷忽熱</a:t>
                </a:r>
                <a:r>
                  <a:rPr b="1" lang="en-US" sz="2000" spc="-1" strike="noStrike">
                    <a:solidFill>
                      <a:srgbClr val="339933"/>
                    </a:solidFill>
                    <a:latin typeface="教育部標準楷書"/>
                    <a:ea typeface="教育部標準楷書"/>
                  </a:rPr>
                  <a:t>+</a:t>
                </a:r>
                <a:r>
                  <a:rPr b="1" lang="zh-TW" sz="2000" spc="-1" strike="noStrike">
                    <a:solidFill>
                      <a:srgbClr val="339933"/>
                    </a:solidFill>
                    <a:latin typeface="教育部標準楷書"/>
                    <a:ea typeface="教育部標準楷書"/>
                  </a:rPr>
                  <a:t>噁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9"/>
              <p:cNvSpPr/>
              <p:nvPr/>
            </p:nvSpPr>
            <p:spPr>
              <a:xfrm flipV="1">
                <a:off x="350640" y="2361960"/>
                <a:ext cx="60984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5"/>
              <p:cNvSpPr/>
              <p:nvPr/>
            </p:nvSpPr>
            <p:spPr>
              <a:xfrm flipH="1" flipV="1">
                <a:off x="8199360" y="2361960"/>
                <a:ext cx="45720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96"/>
              <p:cNvSpPr/>
              <p:nvPr/>
            </p:nvSpPr>
            <p:spPr>
              <a:xfrm>
                <a:off x="8656560" y="2971800"/>
                <a:ext cx="0" cy="213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_s1050"/>
          <p:cNvSpPr/>
          <p:nvPr/>
        </p:nvSpPr>
        <p:spPr>
          <a:xfrm>
            <a:off x="3352680" y="76320"/>
            <a:ext cx="22860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感冒治症簡易圖表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(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一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_s1050"/>
          <p:cNvSpPr/>
          <p:nvPr/>
        </p:nvSpPr>
        <p:spPr>
          <a:xfrm>
            <a:off x="0" y="6095880"/>
            <a:ext cx="487692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註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1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：發燒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有汗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口渴欲飲冷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怕熱→</a:t>
            </a:r>
            <a:r>
              <a:rPr b="0" lang="zh-TW" sz="20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1" action="ppaction://hlinksldjump"/>
              </a:rPr>
              <a:t>白虎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註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2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：發燒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無汗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口不渴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怕冷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四肢冰冷</a:t>
            </a:r>
            <a:r>
              <a:rPr b="0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疲累→</a:t>
            </a:r>
            <a:r>
              <a:rPr b="0" lang="zh-TW" sz="20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2" action="ppaction://hlinksldjump"/>
              </a:rPr>
              <a:t>麻黃附子細辛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麻杏甘石湯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節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4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杏仁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皮尖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50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枚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3"/>
              </a:rPr>
              <a:t>炙甘草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4"/>
              </a:rPr>
              <a:t>石膏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打碎用袋裝，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8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【注意】：有做過心臟手術的病人不可以用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請改用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荊芥</a:t>
            </a:r>
            <a:r>
              <a:rPr b="1" lang="zh-TW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六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防風</a:t>
            </a:r>
            <a:r>
              <a:rPr b="1" lang="zh-TW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四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浮萍</a:t>
            </a:r>
            <a:r>
              <a:rPr b="1" lang="zh-TW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四錢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來取代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麻杏甘石湯使用時機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： 有汗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 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咳嗽不止，痰出黃粘，胃口尚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可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麻杏甘石湯煮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以上四味藥，以水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七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先煮麻黃，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等水量減少二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撈去浮在上層的白沫，再放入其他藥材，煮成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。去滓，每次溫服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。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汗出後須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擦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乾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避免吹風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受涼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用麻黃湯者忌食：生冷、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粘滑、肉麵、五辛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（辛辣）、酒、酪、臭惡等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5" action="ppaction://hlinksldjump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小青龍湯</a:t>
            </a: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節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桂枝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皮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3"/>
              </a:rPr>
              <a:t>白芍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炙甘草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4"/>
              </a:rPr>
              <a:t>乾薑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5"/>
              </a:rPr>
              <a:t>細辛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6"/>
              </a:rPr>
              <a:t>半夏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半升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7"/>
              </a:rPr>
              <a:t>五味子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半升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【注意】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有做過心臟手術的病人不可以用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請改用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荊芥五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防風三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浮萍三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來取代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小青龍湯使用時機：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怕冷、無汗，發燒，咳嗽重，出白痰， 口不渴，身體痛，沒有胃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小青龍湯煮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.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以上八味藥，以水十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先煮麻黃，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等水量減少二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撈去浮在上層的白沫，再放入其他藥材，煮成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。去滓，每次溫服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2.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喝完藥後以全身微微出汗為最佳。切記不可使病人流太多汗。汗出後須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擦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乾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避免吹風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受涼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用小青龍湯者忌食：生冷、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粘滑、肉麵、五辛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（辛辣）、酒、酪、臭惡等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8" action="ppaction://hlinksldjump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大青龍湯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節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杏仁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5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石膏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打碎用袋裝，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6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炙甘草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5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3"/>
              </a:rPr>
              <a:t>桂枝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皮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5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生薑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片   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紅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枚打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【注意】：有做過心臟手術的病人不可以用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請改用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荊芥五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防風三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浮萍三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來取代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大青龍湯使用時機：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怕冷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無汗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發燒咳嗽重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咳出黃痰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身體痛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口渴重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喜飲冷水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沒有胃口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這也是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SARS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、禽流感的主要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證型之一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大青龍湯煮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用六碗水大火快煮成二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湯成後立刻關火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待溫時空腹喝第一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如果一小時內汗出燒退咳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就不需要喝第二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如果三小時內無出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就再喝第二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汗出時就不用再喝了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當身體出汗時須待靜室中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等到出汗自然停止後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再出房間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切不可以出汗時吹到風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如此病毒將無法排盡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還會再發的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成人每次一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小孩每次半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嬰兒每次四分之一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記住：一旦汗出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就不用再喝第二碗了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因為已經好了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再喝恐怕傷到津液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一般病人在服藥後第二天中午時會很餓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胃口大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這表示痊癒了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用大青龍湯者忌食：生冷、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粘滑、肉麵、五辛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（辛辣）、酒、酪、臭惡等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4" action="ppaction://hlinksldjump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白虎湯</a:t>
            </a: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知母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6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石膏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打碎用袋裝</a:t>
            </a:r>
            <a:r>
              <a:rPr b="0" lang="zh-TW" sz="18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45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1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斤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炙甘草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3"/>
              </a:rPr>
              <a:t>粳米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6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合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白虎湯使用時機：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發燒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怕熱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大汗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口渴重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喜飲冷水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白虎湯煮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以上四味藥，以水十碗，煮米熟湯成，去滓。每次溫服一碗，一日三次。 燒退停後服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過量易傷胃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氣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4" action="ppaction://hlinksldjump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射干麻黃湯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射干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節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4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生薑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切片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4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細辛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紫菀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款冬花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大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7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枚打碎　　　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半夏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半升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3"/>
              </a:rPr>
              <a:t>五味子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半升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【注意】：有做過心臟手術的病人不可以用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請改用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荊芥</a:t>
            </a:r>
            <a:r>
              <a:rPr b="1" lang="zh-TW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六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防風</a:t>
            </a:r>
            <a:r>
              <a:rPr b="1" lang="zh-TW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四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浮萍</a:t>
            </a:r>
            <a:r>
              <a:rPr b="1" lang="zh-TW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四錢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來取代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射干麻黃湯使用時機： 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怕冷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 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咳嗽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痰多而</a:t>
            </a:r>
            <a:r>
              <a:rPr b="1" lang="zh-TW" sz="1400" spc="-1" strike="noStrike">
                <a:solidFill>
                  <a:srgbClr val="3333ff"/>
                </a:solidFill>
                <a:latin typeface="標楷體"/>
                <a:ea typeface="標楷體"/>
              </a:rPr>
              <a:t>清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稀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口不渴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喉嚨</a:t>
            </a:r>
            <a:r>
              <a:rPr b="1" lang="zh-TW" sz="1400" spc="-1" strike="noStrike">
                <a:solidFill>
                  <a:srgbClr val="3333ff"/>
                </a:solidFill>
                <a:latin typeface="標楷體"/>
                <a:ea typeface="標楷體"/>
              </a:rPr>
              <a:t>癢而不舒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服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射干麻黃湯煮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以上九味藥，以水十二碗，等水量減少二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撈去浮在上層的白沫，再放入其他藥材，煮成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。去滓，每次溫服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用射干麻黃湯者忌食：生冷、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粘滑、肉麵、五辛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（辛辣）、酒、酪、臭惡等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4" action="ppaction://hlinksldjump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苓甘姜味辛夏仁湯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茯苓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4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炙甘草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乾薑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細辛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半夏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半升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3"/>
              </a:rPr>
              <a:t>五味子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半升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4"/>
              </a:rPr>
              <a:t>杏仁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皮尖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50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枚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苓甘姜味辛夏仁湯使用時機：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咳嗽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白痰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 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無表證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(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惡寒、發熱、身痛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)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時使用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苓甘姜味辛夏仁湯煮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以上七味藥，以水十碗，煮成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。去滓，每次溫服半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。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一日三次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用苓甘姜味辛夏仁湯者忌食：生冷、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粘滑、肉麵、五辛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（辛辣）、酒、酪、臭惡等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5" action="ppaction://hlinksldjump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千金葦莖湯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葦莖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薏苡仁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冬瓜子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桃仁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千金葦莖湯使用時機： 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咳嗽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 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黃痰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不易</a:t>
            </a:r>
            <a:r>
              <a:rPr b="1" lang="zh-TW" sz="1400" spc="-1" strike="noStrike">
                <a:solidFill>
                  <a:srgbClr val="3333ff"/>
                </a:solidFill>
                <a:latin typeface="標楷體"/>
                <a:ea typeface="標楷體"/>
              </a:rPr>
              <a:t>喀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出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 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無表證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(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惡寒、發熱、身痛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)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時使用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                                 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常配合大青龍湯</a:t>
            </a: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麻杏甘石湯使用</a:t>
            </a: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千金葦莖湯煮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以上四味藥搗碎，以水六碗，煮取三碗，每次服一碗，分三次服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用千金葦莖湯者忌食：生冷、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粘滑、肉麵、五辛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（辛辣）、酒、酪、臭惡等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麥門冬湯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麥門冬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6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人參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炙甘草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粳米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合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大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枚　半夏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麥門冬湯使用時機： 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乾咳無痰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 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聲啞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無表證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(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惡寒、發熱、身痛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)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時使用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麥門冬湯煮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以上六味藥，以水十二碗，煮取六碗，溫服一碗，早中晚及睡前各一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用麥門冬湯者忌食：生冷、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粘滑、肉麵、五辛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（辛辣）、酒、酪、臭惡等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麻黃附子細辛湯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麻黃去節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炮附子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切片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0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細辛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麻黃附子細辛湯使用時機：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發燒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/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咳嗽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/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喉嚨痛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/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鼻病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無汗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口不渴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怕冷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四肢冰冷</a:t>
            </a:r>
            <a:r>
              <a:rPr b="0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疲累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麻黃附子細辛湯煮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以上三味藥，以水十碗，先煮麻黃，待水量減少二碗，撈去浮在上層的白沫，再放入其他藥材，煮成三碗，去滓，每次溫服一碗，一天三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0000"/>
                </a:solidFill>
                <a:latin typeface="教育部標準楷書"/>
                <a:ea typeface="教育部標準楷書"/>
              </a:rPr>
              <a:t>請</a:t>
            </a:r>
            <a:r>
              <a:rPr b="0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務必</a:t>
            </a:r>
            <a:r>
              <a:rPr b="0" lang="zh-TW" sz="1400" spc="-1" strike="noStrike">
                <a:solidFill>
                  <a:srgbClr val="ff0000"/>
                </a:solidFill>
                <a:latin typeface="教育部標準楷書"/>
                <a:ea typeface="教育部標準楷書"/>
              </a:rPr>
              <a:t>使用不含膽巴的炮附子。膽巴就</a:t>
            </a:r>
            <a:r>
              <a:rPr b="0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等於防腐劑</a:t>
            </a:r>
            <a:r>
              <a:rPr b="0" lang="en-US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會造成肝腎功能異常</a:t>
            </a:r>
            <a:r>
              <a:rPr b="0" lang="en-US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.</a:t>
            </a:r>
            <a:r>
              <a:rPr b="0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甚至衰竭</a:t>
            </a:r>
            <a:r>
              <a:rPr b="0" lang="en-US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害人性命 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辨別有無含膽巴之方法：以舌尖舔一下炮附子，若有鹹味即是有膽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用麻黃附子細辛湯者忌食：生冷、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粘滑、肉麵、五辛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（辛辣）、酒、酪、臭惡等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2"/>
          <p:cNvGrpSpPr/>
          <p:nvPr/>
        </p:nvGrpSpPr>
        <p:grpSpPr>
          <a:xfrm>
            <a:off x="120600" y="685800"/>
            <a:ext cx="4349520" cy="4906440"/>
            <a:chOff x="120600" y="685800"/>
            <a:chExt cx="4349520" cy="4906440"/>
          </a:xfrm>
        </p:grpSpPr>
        <p:cxnSp>
          <p:nvCxnSpPr>
            <p:cNvPr id="112" name="_s2052"/>
            <p:cNvCxnSpPr>
              <a:stCxn id="113" idx="1"/>
              <a:endCxn id="114" idx="2"/>
            </p:cNvCxnSpPr>
            <p:nvPr/>
          </p:nvCxnSpPr>
          <p:spPr>
            <a:xfrm rot="10800000">
              <a:off x="3419640" y="2914920"/>
              <a:ext cx="149040" cy="89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053"/>
            <p:cNvCxnSpPr>
              <a:stCxn id="116" idx="3"/>
              <a:endCxn id="114" idx="2"/>
            </p:cNvCxnSpPr>
            <p:nvPr/>
          </p:nvCxnSpPr>
          <p:spPr>
            <a:xfrm flipV="1">
              <a:off x="3272040" y="2914920"/>
              <a:ext cx="149040" cy="89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054"/>
            <p:cNvCxnSpPr>
              <a:stCxn id="118" idx="1"/>
              <a:endCxn id="119" idx="2"/>
            </p:cNvCxnSpPr>
            <p:nvPr/>
          </p:nvCxnSpPr>
          <p:spPr>
            <a:xfrm rot="10800000">
              <a:off x="1166040" y="2914920"/>
              <a:ext cx="147600" cy="89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055"/>
            <p:cNvCxnSpPr>
              <a:stCxn id="121" idx="3"/>
              <a:endCxn id="119" idx="2"/>
            </p:cNvCxnSpPr>
            <p:nvPr/>
          </p:nvCxnSpPr>
          <p:spPr>
            <a:xfrm flipV="1">
              <a:off x="1017000" y="2914920"/>
              <a:ext cx="150480" cy="89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6"/>
            <p:cNvCxnSpPr>
              <a:stCxn id="123" idx="0"/>
              <a:endCxn id="113" idx="2"/>
            </p:cNvCxnSpPr>
            <p:nvPr/>
          </p:nvCxnSpPr>
          <p:spPr>
            <a:xfrm flipV="1">
              <a:off x="4018680" y="4252320"/>
              <a:ext cx="2160" cy="44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24" name="_s2057"/>
            <p:cNvCxnSpPr>
              <a:stCxn id="125" idx="0"/>
              <a:endCxn id="116" idx="2"/>
            </p:cNvCxnSpPr>
            <p:nvPr/>
          </p:nvCxnSpPr>
          <p:spPr>
            <a:xfrm flipV="1">
              <a:off x="2819160" y="4252320"/>
              <a:ext cx="1800" cy="44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26" name="_s2058"/>
            <p:cNvCxnSpPr>
              <a:stCxn id="127" idx="0"/>
              <a:endCxn id="121" idx="2"/>
            </p:cNvCxnSpPr>
            <p:nvPr/>
          </p:nvCxnSpPr>
          <p:spPr>
            <a:xfrm flipV="1">
              <a:off x="569880" y="4252320"/>
              <a:ext cx="1800" cy="44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28" name="_s2059"/>
            <p:cNvCxnSpPr>
              <a:stCxn id="129" idx="0"/>
              <a:endCxn id="118" idx="2"/>
            </p:cNvCxnSpPr>
            <p:nvPr/>
          </p:nvCxnSpPr>
          <p:spPr>
            <a:xfrm flipV="1">
              <a:off x="1764720" y="4252320"/>
              <a:ext cx="1800" cy="44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30" name="_s2060"/>
            <p:cNvCxnSpPr>
              <a:stCxn id="114" idx="0"/>
              <a:endCxn id="131" idx="2"/>
            </p:cNvCxnSpPr>
            <p:nvPr/>
          </p:nvCxnSpPr>
          <p:spPr>
            <a:xfrm flipV="1" rot="16200000">
              <a:off x="2633040" y="1238040"/>
              <a:ext cx="447480" cy="1127880"/>
            </a:xfrm>
            <a:prstGeom prst="bentConnector3">
              <a:avLst>
                <a:gd name="adj1" fmla="val 25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61"/>
            <p:cNvCxnSpPr>
              <a:stCxn id="119" idx="0"/>
              <a:endCxn id="131" idx="2"/>
            </p:cNvCxnSpPr>
            <p:nvPr/>
          </p:nvCxnSpPr>
          <p:spPr>
            <a:xfrm flipH="1" flipV="1" rot="5400000">
              <a:off x="1505880" y="1238760"/>
              <a:ext cx="447480" cy="1126440"/>
            </a:xfrm>
            <a:prstGeom prst="bentConnector3">
              <a:avLst>
                <a:gd name="adj1" fmla="val 25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2062"/>
            <p:cNvSpPr/>
            <p:nvPr/>
          </p:nvSpPr>
          <p:spPr>
            <a:xfrm>
              <a:off x="1850760" y="685800"/>
              <a:ext cx="885600" cy="893160"/>
            </a:xfrm>
            <a:custGeom>
              <a:avLst/>
              <a:gdLst>
                <a:gd name="textAreaLeft" fmla="*/ 43200 w 885600"/>
                <a:gd name="textAreaRight" fmla="*/ 842400 w 885600"/>
                <a:gd name="textAreaTop" fmla="*/ 43200 h 893160"/>
                <a:gd name="textAreaBottom" fmla="*/ 849960 h 893160"/>
              </a:gdLst>
              <a:ahLst/>
              <a:rect l="textAreaLeft" t="textAreaTop" r="textAreaRight" b="textAreaBottom"/>
              <a:pathLst>
                <a:path w="21600" h="21784">
                  <a:moveTo>
                    <a:pt x="3600" y="0"/>
                  </a:moveTo>
                  <a:arcTo wR="3600" hR="3600" stAng="16200000" swAng="-5400000"/>
                  <a:lnTo>
                    <a:pt x="0" y="18184"/>
                  </a:lnTo>
                  <a:arcTo wR="3600" hR="3600" stAng="10800000" swAng="-5400000"/>
                  <a:lnTo>
                    <a:pt x="18000" y="217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咳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63"/>
            <p:cNvSpPr/>
            <p:nvPr/>
          </p:nvSpPr>
          <p:spPr>
            <a:xfrm>
              <a:off x="741960" y="2025720"/>
              <a:ext cx="846360" cy="889920"/>
            </a:xfrm>
            <a:custGeom>
              <a:avLst/>
              <a:gdLst>
                <a:gd name="textAreaLeft" fmla="*/ 41040 w 846360"/>
                <a:gd name="textAreaRight" fmla="*/ 805320 w 846360"/>
                <a:gd name="textAreaTop" fmla="*/ 41040 h 889920"/>
                <a:gd name="textAreaBottom" fmla="*/ 848880 h 889920"/>
              </a:gdLst>
              <a:ahLst/>
              <a:rect l="textAreaLeft" t="textAreaTop" r="textAreaRight" b="textAreaBottom"/>
              <a:pathLst>
                <a:path w="21600" h="22711">
                  <a:moveTo>
                    <a:pt x="3600" y="0"/>
                  </a:moveTo>
                  <a:arcTo wR="3600" hR="3600" stAng="16200000" swAng="-5400000"/>
                  <a:lnTo>
                    <a:pt x="0" y="19111"/>
                  </a:lnTo>
                  <a:arcTo wR="3600" hR="3600" stAng="10800000" swAng="-5400000"/>
                  <a:lnTo>
                    <a:pt x="18000" y="227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339933"/>
                  </a:solidFill>
                  <a:latin typeface="教育部標準楷書"/>
                  <a:ea typeface="教育部標準楷書"/>
                </a:rPr>
                <a:t>有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064"/>
            <p:cNvSpPr/>
            <p:nvPr/>
          </p:nvSpPr>
          <p:spPr>
            <a:xfrm>
              <a:off x="2997360" y="2025720"/>
              <a:ext cx="846360" cy="889920"/>
            </a:xfrm>
            <a:custGeom>
              <a:avLst/>
              <a:gdLst>
                <a:gd name="textAreaLeft" fmla="*/ 41040 w 846360"/>
                <a:gd name="textAreaRight" fmla="*/ 805320 w 846360"/>
                <a:gd name="textAreaTop" fmla="*/ 41040 h 889920"/>
                <a:gd name="textAreaBottom" fmla="*/ 848880 h 889920"/>
              </a:gdLst>
              <a:ahLst/>
              <a:rect l="textAreaLeft" t="textAreaTop" r="textAreaRight" b="textAreaBottom"/>
              <a:pathLst>
                <a:path w="21600" h="22711">
                  <a:moveTo>
                    <a:pt x="3600" y="0"/>
                  </a:moveTo>
                  <a:arcTo wR="3600" hR="3600" stAng="16200000" swAng="-5400000"/>
                  <a:lnTo>
                    <a:pt x="0" y="19111"/>
                  </a:lnTo>
                  <a:arcTo wR="3600" hR="3600" stAng="10800000" swAng="-5400000"/>
                  <a:lnTo>
                    <a:pt x="18000" y="227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339933"/>
                  </a:solidFill>
                  <a:latin typeface="教育部標準楷書"/>
                  <a:ea typeface="教育部標準楷書"/>
                </a:rPr>
                <a:t>無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5"/>
            <p:cNvSpPr/>
            <p:nvPr/>
          </p:nvSpPr>
          <p:spPr>
            <a:xfrm>
              <a:off x="1313640" y="3362400"/>
              <a:ext cx="902160" cy="89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不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白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66"/>
            <p:cNvSpPr/>
            <p:nvPr/>
          </p:nvSpPr>
          <p:spPr>
            <a:xfrm>
              <a:off x="121680" y="3362400"/>
              <a:ext cx="894960" cy="89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黃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67"/>
            <p:cNvSpPr/>
            <p:nvPr/>
          </p:nvSpPr>
          <p:spPr>
            <a:xfrm>
              <a:off x="2364480" y="3362400"/>
              <a:ext cx="907200" cy="89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黃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068"/>
            <p:cNvSpPr/>
            <p:nvPr/>
          </p:nvSpPr>
          <p:spPr>
            <a:xfrm>
              <a:off x="3569040" y="3362400"/>
              <a:ext cx="901080" cy="89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不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白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69"/>
            <p:cNvSpPr/>
            <p:nvPr/>
          </p:nvSpPr>
          <p:spPr>
            <a:xfrm>
              <a:off x="1313640" y="4699080"/>
              <a:ext cx="902160" cy="89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" action="ppaction://hlinksldjump"/>
                </a:rPr>
                <a:t>桂枝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2" action="ppaction://hlinksldjump"/>
                </a:rPr>
                <a:t>+</a:t>
              </a:r>
              <a:r>
                <a:rPr b="0" lang="zh-TW" sz="20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3" action="ppaction://hlinksldjump"/>
                </a:rPr>
                <a:t>厚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4" action="ppaction://hlinksldjump"/>
                </a:rPr>
                <a:t>+</a:t>
              </a:r>
              <a:r>
                <a:rPr b="0" lang="zh-TW" sz="20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5" action="ppaction://hlinksldjump"/>
                </a:rPr>
                <a:t>杏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70"/>
            <p:cNvSpPr/>
            <p:nvPr/>
          </p:nvSpPr>
          <p:spPr>
            <a:xfrm>
              <a:off x="120600" y="4699080"/>
              <a:ext cx="896400" cy="89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6" action="ppaction://hlinksldjump"/>
                </a:rPr>
                <a:t>麻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7" action="ppaction://hlinksldjump"/>
                </a:rPr>
                <a:t>甘石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71"/>
            <p:cNvSpPr/>
            <p:nvPr/>
          </p:nvSpPr>
          <p:spPr>
            <a:xfrm>
              <a:off x="2364480" y="4699080"/>
              <a:ext cx="907200" cy="89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8" action="ppaction://hlinksldjump"/>
                </a:rPr>
                <a:t>大青龍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9" action="ppaction://hlinksldjump"/>
                </a:rPr>
                <a:t>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72"/>
            <p:cNvSpPr/>
            <p:nvPr/>
          </p:nvSpPr>
          <p:spPr>
            <a:xfrm>
              <a:off x="3569040" y="4699080"/>
              <a:ext cx="901080" cy="89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0" action="ppaction://hlinksldjump"/>
                </a:rPr>
                <a:t>小青龍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1" action="ppaction://hlinksldjump"/>
                </a:rPr>
                <a:t>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50"/>
            <p:cNvSpPr/>
            <p:nvPr/>
          </p:nvSpPr>
          <p:spPr>
            <a:xfrm>
              <a:off x="1419480" y="685800"/>
              <a:ext cx="1724400" cy="902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咳 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(</a:t>
              </a:r>
              <a:r>
                <a:rPr b="1" lang="zh-TW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可兼有發燒</a:t>
              </a:r>
              <a:r>
                <a:rPr b="1" lang="en-US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Organization Chart 80"/>
          <p:cNvGrpSpPr/>
          <p:nvPr/>
        </p:nvGrpSpPr>
        <p:grpSpPr>
          <a:xfrm>
            <a:off x="4673520" y="685800"/>
            <a:ext cx="4349520" cy="4906440"/>
            <a:chOff x="4673520" y="685800"/>
            <a:chExt cx="4349520" cy="4906440"/>
          </a:xfrm>
        </p:grpSpPr>
        <p:cxnSp>
          <p:nvCxnSpPr>
            <p:cNvPr id="135" name="_s2076"/>
            <p:cNvCxnSpPr>
              <a:stCxn id="136" idx="1"/>
              <a:endCxn id="137" idx="2"/>
            </p:cNvCxnSpPr>
            <p:nvPr/>
          </p:nvCxnSpPr>
          <p:spPr>
            <a:xfrm rot="10800000">
              <a:off x="7974720" y="2915280"/>
              <a:ext cx="14796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77"/>
            <p:cNvCxnSpPr>
              <a:stCxn id="139" idx="3"/>
              <a:endCxn id="137" idx="2"/>
            </p:cNvCxnSpPr>
            <p:nvPr/>
          </p:nvCxnSpPr>
          <p:spPr>
            <a:xfrm flipV="1">
              <a:off x="7824600" y="2915280"/>
              <a:ext cx="1512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78"/>
            <p:cNvCxnSpPr>
              <a:stCxn id="141" idx="1"/>
              <a:endCxn id="142" idx="2"/>
            </p:cNvCxnSpPr>
            <p:nvPr/>
          </p:nvCxnSpPr>
          <p:spPr>
            <a:xfrm rot="10800000">
              <a:off x="5718960" y="2915280"/>
              <a:ext cx="14796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79"/>
            <p:cNvCxnSpPr>
              <a:stCxn id="144" idx="3"/>
              <a:endCxn id="142" idx="2"/>
            </p:cNvCxnSpPr>
            <p:nvPr/>
          </p:nvCxnSpPr>
          <p:spPr>
            <a:xfrm flipV="1">
              <a:off x="5567040" y="2915280"/>
              <a:ext cx="1530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80"/>
            <p:cNvCxnSpPr>
              <a:stCxn id="146" idx="0"/>
              <a:endCxn id="136" idx="2"/>
            </p:cNvCxnSpPr>
            <p:nvPr/>
          </p:nvCxnSpPr>
          <p:spPr>
            <a:xfrm flipV="1">
              <a:off x="8574120" y="4252680"/>
              <a:ext cx="180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47" name="_s2081"/>
            <p:cNvCxnSpPr>
              <a:stCxn id="148" idx="0"/>
              <a:endCxn id="139" idx="2"/>
            </p:cNvCxnSpPr>
            <p:nvPr/>
          </p:nvCxnSpPr>
          <p:spPr>
            <a:xfrm flipV="1">
              <a:off x="7371000" y="4252680"/>
              <a:ext cx="180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49" name="_s2082"/>
            <p:cNvCxnSpPr>
              <a:stCxn id="150" idx="0"/>
              <a:endCxn id="144" idx="2"/>
            </p:cNvCxnSpPr>
            <p:nvPr/>
          </p:nvCxnSpPr>
          <p:spPr>
            <a:xfrm flipV="1">
              <a:off x="5120280" y="4252680"/>
              <a:ext cx="180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51" name="_s2083"/>
            <p:cNvCxnSpPr>
              <a:stCxn id="152" idx="0"/>
              <a:endCxn id="141" idx="2"/>
            </p:cNvCxnSpPr>
            <p:nvPr/>
          </p:nvCxnSpPr>
          <p:spPr>
            <a:xfrm flipV="1">
              <a:off x="6318720" y="4252680"/>
              <a:ext cx="180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53" name="_s2084"/>
            <p:cNvCxnSpPr>
              <a:stCxn id="137" idx="0"/>
              <a:endCxn id="154" idx="2"/>
            </p:cNvCxnSpPr>
            <p:nvPr/>
          </p:nvCxnSpPr>
          <p:spPr>
            <a:xfrm flipV="1" rot="16200000">
              <a:off x="7187400" y="1236240"/>
              <a:ext cx="446760" cy="1129320"/>
            </a:xfrm>
            <a:prstGeom prst="bentConnector3">
              <a:avLst>
                <a:gd name="adj1" fmla="val 254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2085"/>
            <p:cNvCxnSpPr>
              <a:stCxn id="142" idx="0"/>
              <a:endCxn id="154" idx="2"/>
            </p:cNvCxnSpPr>
            <p:nvPr/>
          </p:nvCxnSpPr>
          <p:spPr>
            <a:xfrm flipH="1" flipV="1" rot="5400000">
              <a:off x="6059880" y="1237320"/>
              <a:ext cx="446760" cy="1127520"/>
            </a:xfrm>
            <a:prstGeom prst="bentConnector3">
              <a:avLst>
                <a:gd name="adj1" fmla="val 254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2086"/>
            <p:cNvSpPr/>
            <p:nvPr/>
          </p:nvSpPr>
          <p:spPr>
            <a:xfrm>
              <a:off x="6404400" y="685800"/>
              <a:ext cx="884160" cy="892440"/>
            </a:xfrm>
            <a:custGeom>
              <a:avLst/>
              <a:gdLst>
                <a:gd name="textAreaLeft" fmla="*/ 42840 w 884160"/>
                <a:gd name="textAreaRight" fmla="*/ 841320 w 884160"/>
                <a:gd name="textAreaTop" fmla="*/ 42840 h 892440"/>
                <a:gd name="textAreaBottom" fmla="*/ 849600 h 892440"/>
              </a:gdLst>
              <a:ahLst/>
              <a:rect l="textAreaLeft" t="textAreaTop" r="textAreaRight" b="textAreaBottom"/>
              <a:pathLst>
                <a:path w="21600" h="21802">
                  <a:moveTo>
                    <a:pt x="3600" y="0"/>
                  </a:moveTo>
                  <a:arcTo wR="3600" hR="3600" stAng="16200000" swAng="-5400000"/>
                  <a:lnTo>
                    <a:pt x="0" y="18202"/>
                  </a:lnTo>
                  <a:arcTo wR="3600" hR="3600" stAng="10800000" swAng="-5400000"/>
                  <a:lnTo>
                    <a:pt x="18000" y="218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喉嚨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087"/>
            <p:cNvSpPr/>
            <p:nvPr/>
          </p:nvSpPr>
          <p:spPr>
            <a:xfrm>
              <a:off x="5294880" y="2024640"/>
              <a:ext cx="847800" cy="89100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91000"/>
                <a:gd name="textAreaBottom" fmla="*/ 849600 h 891000"/>
              </a:gdLst>
              <a:ahLst/>
              <a:rect l="textAreaLeft" t="textAreaTop" r="textAreaRight" b="textAreaBottom"/>
              <a:pathLst>
                <a:path w="21600" h="22700">
                  <a:moveTo>
                    <a:pt x="3600" y="0"/>
                  </a:moveTo>
                  <a:arcTo wR="3600" hR="3600" stAng="16200000" swAng="-5400000"/>
                  <a:lnTo>
                    <a:pt x="0" y="19100"/>
                  </a:lnTo>
                  <a:arcTo wR="3600" hR="3600" stAng="10800000" swAng="-5400000"/>
                  <a:lnTo>
                    <a:pt x="18000" y="22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339933"/>
                  </a:solidFill>
                  <a:latin typeface="教育部標準楷書"/>
                  <a:ea typeface="教育部標準楷書"/>
                </a:rPr>
                <a:t>有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088"/>
            <p:cNvSpPr/>
            <p:nvPr/>
          </p:nvSpPr>
          <p:spPr>
            <a:xfrm>
              <a:off x="7550640" y="2024640"/>
              <a:ext cx="847800" cy="89100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91000"/>
                <a:gd name="textAreaBottom" fmla="*/ 849600 h 891000"/>
              </a:gdLst>
              <a:ahLst/>
              <a:rect l="textAreaLeft" t="textAreaTop" r="textAreaRight" b="textAreaBottom"/>
              <a:pathLst>
                <a:path w="21600" h="22700">
                  <a:moveTo>
                    <a:pt x="3600" y="0"/>
                  </a:moveTo>
                  <a:arcTo wR="3600" hR="3600" stAng="16200000" swAng="-5400000"/>
                  <a:lnTo>
                    <a:pt x="0" y="19100"/>
                  </a:lnTo>
                  <a:arcTo wR="3600" hR="3600" stAng="10800000" swAng="-5400000"/>
                  <a:lnTo>
                    <a:pt x="18000" y="22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339933"/>
                  </a:solidFill>
                  <a:latin typeface="教育部標準楷書"/>
                  <a:ea typeface="教育部標準楷書"/>
                </a:rPr>
                <a:t>無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89"/>
            <p:cNvSpPr/>
            <p:nvPr/>
          </p:nvSpPr>
          <p:spPr>
            <a:xfrm>
              <a:off x="5867280" y="3362040"/>
              <a:ext cx="901800" cy="89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不咳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90"/>
            <p:cNvSpPr/>
            <p:nvPr/>
          </p:nvSpPr>
          <p:spPr>
            <a:xfrm>
              <a:off x="4673520" y="3362040"/>
              <a:ext cx="893880" cy="89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咳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黃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黃鼻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91"/>
            <p:cNvSpPr/>
            <p:nvPr/>
          </p:nvSpPr>
          <p:spPr>
            <a:xfrm>
              <a:off x="6917760" y="3362040"/>
              <a:ext cx="906840" cy="89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咳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黃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黃鼻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92"/>
            <p:cNvSpPr/>
            <p:nvPr/>
          </p:nvSpPr>
          <p:spPr>
            <a:xfrm>
              <a:off x="8122680" y="3362040"/>
              <a:ext cx="900360" cy="89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不咳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93"/>
            <p:cNvSpPr/>
            <p:nvPr/>
          </p:nvSpPr>
          <p:spPr>
            <a:xfrm>
              <a:off x="5867280" y="4699800"/>
              <a:ext cx="901800" cy="89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2" action="ppaction://hlinksldjump"/>
                </a:rPr>
                <a:t>桂枝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3" action="ppaction://hlinksldjump"/>
                </a:rPr>
                <a:t>+</a:t>
              </a: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4" action="ppaction://hlinksldjump"/>
                </a:rPr>
                <a:t>葛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94"/>
            <p:cNvSpPr/>
            <p:nvPr/>
          </p:nvSpPr>
          <p:spPr>
            <a:xfrm>
              <a:off x="4673520" y="4699800"/>
              <a:ext cx="895680" cy="89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5" action="ppaction://hlinksldjump"/>
                </a:rPr>
                <a:t>麻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6" action="ppaction://hlinksldjump"/>
                </a:rPr>
                <a:t>甘石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95"/>
            <p:cNvSpPr/>
            <p:nvPr/>
          </p:nvSpPr>
          <p:spPr>
            <a:xfrm>
              <a:off x="6917760" y="4699800"/>
              <a:ext cx="906840" cy="89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7" action="ppaction://hlinksldjump"/>
                </a:rPr>
                <a:t>大青龍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8" action="ppaction://hlinksldjump"/>
                </a:rPr>
                <a:t>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96"/>
            <p:cNvSpPr/>
            <p:nvPr/>
          </p:nvSpPr>
          <p:spPr>
            <a:xfrm>
              <a:off x="8122680" y="4699800"/>
              <a:ext cx="900360" cy="89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9" action="ppaction://hlinksldjump"/>
                </a:rPr>
                <a:t>葛根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50"/>
            <p:cNvSpPr/>
            <p:nvPr/>
          </p:nvSpPr>
          <p:spPr>
            <a:xfrm>
              <a:off x="5942880" y="685800"/>
              <a:ext cx="1753200" cy="919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喉嚨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(</a:t>
              </a:r>
              <a:r>
                <a:rPr b="1" lang="zh-TW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可兼有發燒</a:t>
              </a:r>
              <a:r>
                <a:rPr b="1" lang="en-US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_s1050"/>
          <p:cNvSpPr/>
          <p:nvPr/>
        </p:nvSpPr>
        <p:spPr>
          <a:xfrm>
            <a:off x="3352680" y="76320"/>
            <a:ext cx="22860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感冒治症簡易圖表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(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二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_s1050"/>
          <p:cNvSpPr/>
          <p:nvPr/>
        </p:nvSpPr>
        <p:spPr>
          <a:xfrm>
            <a:off x="76320" y="5638680"/>
            <a:ext cx="792468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註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1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：女子月經期感冒一律使用</a:t>
            </a:r>
            <a:r>
              <a:rPr b="0" lang="zh-TW" sz="20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0" action="ppaction://hlinksldjump"/>
              </a:rPr>
              <a:t>小柴胡湯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，若咳嗽加厚朴杏仁、喉嚨痛加葛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註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2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：小青龍湯症但表症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(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惡寒發熱頭痛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)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不明顯→</a:t>
            </a:r>
            <a:r>
              <a:rPr b="0" lang="zh-TW" sz="20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1" action="ppaction://hlinksldjump"/>
              </a:rPr>
              <a:t>射干麻黃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註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3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：咳嗽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/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喉嚨痛 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無汗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口不渴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怕冷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四肢冰冷</a:t>
            </a:r>
            <a:r>
              <a:rPr b="0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疲累→</a:t>
            </a:r>
            <a:r>
              <a:rPr b="0" lang="zh-TW" sz="20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2" action="ppaction://hlinksldjump"/>
              </a:rPr>
              <a:t>麻黃附子細辛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Organization Chart 2"/>
          <p:cNvGrpSpPr/>
          <p:nvPr/>
        </p:nvGrpSpPr>
        <p:grpSpPr>
          <a:xfrm>
            <a:off x="120600" y="685800"/>
            <a:ext cx="4349520" cy="4906440"/>
            <a:chOff x="120600" y="685800"/>
            <a:chExt cx="4349520" cy="4906440"/>
          </a:xfrm>
        </p:grpSpPr>
        <p:cxnSp>
          <p:nvCxnSpPr>
            <p:cNvPr id="160" name="_s3076"/>
            <p:cNvCxnSpPr>
              <a:stCxn id="161" idx="1"/>
              <a:endCxn id="162" idx="2"/>
            </p:cNvCxnSpPr>
            <p:nvPr/>
          </p:nvCxnSpPr>
          <p:spPr>
            <a:xfrm rot="10800000">
              <a:off x="3419640" y="2914920"/>
              <a:ext cx="149040" cy="89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3077"/>
            <p:cNvCxnSpPr>
              <a:stCxn id="164" idx="3"/>
              <a:endCxn id="162" idx="2"/>
            </p:cNvCxnSpPr>
            <p:nvPr/>
          </p:nvCxnSpPr>
          <p:spPr>
            <a:xfrm flipV="1">
              <a:off x="3272040" y="2914920"/>
              <a:ext cx="149040" cy="89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3078"/>
            <p:cNvCxnSpPr>
              <a:stCxn id="166" idx="1"/>
              <a:endCxn id="167" idx="2"/>
            </p:cNvCxnSpPr>
            <p:nvPr/>
          </p:nvCxnSpPr>
          <p:spPr>
            <a:xfrm rot="10800000">
              <a:off x="1166040" y="2914920"/>
              <a:ext cx="147600" cy="89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3079"/>
            <p:cNvCxnSpPr>
              <a:stCxn id="169" idx="3"/>
              <a:endCxn id="167" idx="2"/>
            </p:cNvCxnSpPr>
            <p:nvPr/>
          </p:nvCxnSpPr>
          <p:spPr>
            <a:xfrm flipV="1">
              <a:off x="1017000" y="2914920"/>
              <a:ext cx="150480" cy="892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3080"/>
            <p:cNvCxnSpPr>
              <a:stCxn id="171" idx="0"/>
              <a:endCxn id="161" idx="2"/>
            </p:cNvCxnSpPr>
            <p:nvPr/>
          </p:nvCxnSpPr>
          <p:spPr>
            <a:xfrm flipV="1">
              <a:off x="4018680" y="4252320"/>
              <a:ext cx="2160" cy="44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72" name="_s3081"/>
            <p:cNvCxnSpPr>
              <a:stCxn id="173" idx="0"/>
              <a:endCxn id="164" idx="2"/>
            </p:cNvCxnSpPr>
            <p:nvPr/>
          </p:nvCxnSpPr>
          <p:spPr>
            <a:xfrm flipV="1">
              <a:off x="2819160" y="4252320"/>
              <a:ext cx="1800" cy="44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74" name="_s3082"/>
            <p:cNvCxnSpPr>
              <a:stCxn id="175" idx="0"/>
              <a:endCxn id="169" idx="2"/>
            </p:cNvCxnSpPr>
            <p:nvPr/>
          </p:nvCxnSpPr>
          <p:spPr>
            <a:xfrm flipV="1">
              <a:off x="569880" y="4252320"/>
              <a:ext cx="1800" cy="44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76" name="_s3083"/>
            <p:cNvCxnSpPr>
              <a:stCxn id="177" idx="0"/>
              <a:endCxn id="166" idx="2"/>
            </p:cNvCxnSpPr>
            <p:nvPr/>
          </p:nvCxnSpPr>
          <p:spPr>
            <a:xfrm flipV="1">
              <a:off x="1764720" y="4252320"/>
              <a:ext cx="1800" cy="44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78" name="_s3084"/>
            <p:cNvCxnSpPr>
              <a:stCxn id="162" idx="0"/>
              <a:endCxn id="179" idx="2"/>
            </p:cNvCxnSpPr>
            <p:nvPr/>
          </p:nvCxnSpPr>
          <p:spPr>
            <a:xfrm flipV="1" rot="16200000">
              <a:off x="2633040" y="1238040"/>
              <a:ext cx="447480" cy="1127880"/>
            </a:xfrm>
            <a:prstGeom prst="bentConnector3">
              <a:avLst>
                <a:gd name="adj1" fmla="val 25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3085"/>
            <p:cNvCxnSpPr>
              <a:stCxn id="167" idx="0"/>
              <a:endCxn id="179" idx="2"/>
            </p:cNvCxnSpPr>
            <p:nvPr/>
          </p:nvCxnSpPr>
          <p:spPr>
            <a:xfrm flipH="1" flipV="1" rot="5400000">
              <a:off x="1505880" y="1238760"/>
              <a:ext cx="447480" cy="1126440"/>
            </a:xfrm>
            <a:prstGeom prst="bentConnector3">
              <a:avLst>
                <a:gd name="adj1" fmla="val 25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3086"/>
            <p:cNvSpPr/>
            <p:nvPr/>
          </p:nvSpPr>
          <p:spPr>
            <a:xfrm>
              <a:off x="1850760" y="685800"/>
              <a:ext cx="885600" cy="893160"/>
            </a:xfrm>
            <a:custGeom>
              <a:avLst/>
              <a:gdLst>
                <a:gd name="textAreaLeft" fmla="*/ 43200 w 885600"/>
                <a:gd name="textAreaRight" fmla="*/ 842400 w 885600"/>
                <a:gd name="textAreaTop" fmla="*/ 43200 h 893160"/>
                <a:gd name="textAreaBottom" fmla="*/ 849960 h 893160"/>
              </a:gdLst>
              <a:ahLst/>
              <a:rect l="textAreaLeft" t="textAreaTop" r="textAreaRight" b="textAreaBottom"/>
              <a:pathLst>
                <a:path w="21600" h="21784">
                  <a:moveTo>
                    <a:pt x="3600" y="0"/>
                  </a:moveTo>
                  <a:arcTo wR="3600" hR="3600" stAng="16200000" swAng="-5400000"/>
                  <a:lnTo>
                    <a:pt x="0" y="18184"/>
                  </a:lnTo>
                  <a:arcTo wR="3600" hR="3600" stAng="10800000" swAng="-5400000"/>
                  <a:lnTo>
                    <a:pt x="18000" y="217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咳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87"/>
            <p:cNvSpPr/>
            <p:nvPr/>
          </p:nvSpPr>
          <p:spPr>
            <a:xfrm>
              <a:off x="741960" y="2025720"/>
              <a:ext cx="846360" cy="889920"/>
            </a:xfrm>
            <a:custGeom>
              <a:avLst/>
              <a:gdLst>
                <a:gd name="textAreaLeft" fmla="*/ 41040 w 846360"/>
                <a:gd name="textAreaRight" fmla="*/ 805320 w 846360"/>
                <a:gd name="textAreaTop" fmla="*/ 41040 h 889920"/>
                <a:gd name="textAreaBottom" fmla="*/ 848880 h 889920"/>
              </a:gdLst>
              <a:ahLst/>
              <a:rect l="textAreaLeft" t="textAreaTop" r="textAreaRight" b="textAreaBottom"/>
              <a:pathLst>
                <a:path w="21600" h="22711">
                  <a:moveTo>
                    <a:pt x="3600" y="0"/>
                  </a:moveTo>
                  <a:arcTo wR="3600" hR="3600" stAng="16200000" swAng="-5400000"/>
                  <a:lnTo>
                    <a:pt x="0" y="19111"/>
                  </a:lnTo>
                  <a:arcTo wR="3600" hR="3600" stAng="10800000" swAng="-5400000"/>
                  <a:lnTo>
                    <a:pt x="18000" y="227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339933"/>
                  </a:solidFill>
                  <a:latin typeface="教育部標準楷書"/>
                  <a:ea typeface="教育部標準楷書"/>
                </a:rPr>
                <a:t>有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3088"/>
            <p:cNvSpPr/>
            <p:nvPr/>
          </p:nvSpPr>
          <p:spPr>
            <a:xfrm>
              <a:off x="2997360" y="2025720"/>
              <a:ext cx="846360" cy="889920"/>
            </a:xfrm>
            <a:custGeom>
              <a:avLst/>
              <a:gdLst>
                <a:gd name="textAreaLeft" fmla="*/ 41040 w 846360"/>
                <a:gd name="textAreaRight" fmla="*/ 805320 w 846360"/>
                <a:gd name="textAreaTop" fmla="*/ 41040 h 889920"/>
                <a:gd name="textAreaBottom" fmla="*/ 848880 h 889920"/>
              </a:gdLst>
              <a:ahLst/>
              <a:rect l="textAreaLeft" t="textAreaTop" r="textAreaRight" b="textAreaBottom"/>
              <a:pathLst>
                <a:path w="21600" h="22711">
                  <a:moveTo>
                    <a:pt x="3600" y="0"/>
                  </a:moveTo>
                  <a:arcTo wR="3600" hR="3600" stAng="16200000" swAng="-5400000"/>
                  <a:lnTo>
                    <a:pt x="0" y="19111"/>
                  </a:lnTo>
                  <a:arcTo wR="3600" hR="3600" stAng="10800000" swAng="-5400000"/>
                  <a:lnTo>
                    <a:pt x="18000" y="227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339933"/>
                  </a:solidFill>
                  <a:latin typeface="教育部標準楷書"/>
                  <a:ea typeface="教育部標準楷書"/>
                </a:rPr>
                <a:t>無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3089"/>
            <p:cNvSpPr/>
            <p:nvPr/>
          </p:nvSpPr>
          <p:spPr>
            <a:xfrm>
              <a:off x="1313640" y="3362400"/>
              <a:ext cx="902160" cy="89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不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白鼻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90"/>
            <p:cNvSpPr/>
            <p:nvPr/>
          </p:nvSpPr>
          <p:spPr>
            <a:xfrm>
              <a:off x="121680" y="3362400"/>
              <a:ext cx="894960" cy="89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黃鼻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3091"/>
            <p:cNvSpPr/>
            <p:nvPr/>
          </p:nvSpPr>
          <p:spPr>
            <a:xfrm>
              <a:off x="2364480" y="3362400"/>
              <a:ext cx="907200" cy="89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黃鼻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3092"/>
            <p:cNvSpPr/>
            <p:nvPr/>
          </p:nvSpPr>
          <p:spPr>
            <a:xfrm>
              <a:off x="3569040" y="3362400"/>
              <a:ext cx="901080" cy="89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不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白鼻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3093"/>
            <p:cNvSpPr/>
            <p:nvPr/>
          </p:nvSpPr>
          <p:spPr>
            <a:xfrm>
              <a:off x="1313640" y="4699080"/>
              <a:ext cx="902160" cy="89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" action="ppaction://hlinksldjump"/>
                </a:rPr>
                <a:t>桂枝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3094"/>
            <p:cNvSpPr/>
            <p:nvPr/>
          </p:nvSpPr>
          <p:spPr>
            <a:xfrm>
              <a:off x="120600" y="4699080"/>
              <a:ext cx="896400" cy="89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2" action="ppaction://hlinksldjump"/>
                </a:rPr>
                <a:t>麻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3" action="ppaction://hlinksldjump"/>
                </a:rPr>
                <a:t>甘石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095"/>
            <p:cNvSpPr/>
            <p:nvPr/>
          </p:nvSpPr>
          <p:spPr>
            <a:xfrm>
              <a:off x="2364480" y="4699080"/>
              <a:ext cx="907200" cy="89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4" action="ppaction://hlinksldjump"/>
                </a:rPr>
                <a:t>大青龍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5" action="ppaction://hlinksldjump"/>
                </a:rPr>
                <a:t>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096"/>
            <p:cNvSpPr/>
            <p:nvPr/>
          </p:nvSpPr>
          <p:spPr>
            <a:xfrm>
              <a:off x="3569040" y="4699080"/>
              <a:ext cx="901080" cy="89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6" action="ppaction://hlinksldjump"/>
                </a:rPr>
                <a:t>小青龍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7" action="ppaction://hlinksldjump"/>
                </a:rPr>
                <a:t>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050"/>
            <p:cNvSpPr/>
            <p:nvPr/>
          </p:nvSpPr>
          <p:spPr>
            <a:xfrm>
              <a:off x="1419480" y="685800"/>
              <a:ext cx="1724400" cy="902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鼻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(</a:t>
              </a:r>
              <a:r>
                <a:rPr b="1" lang="zh-TW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可兼有發燒</a:t>
              </a:r>
              <a:r>
                <a:rPr b="1" lang="en-US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_s1050"/>
          <p:cNvSpPr/>
          <p:nvPr/>
        </p:nvSpPr>
        <p:spPr>
          <a:xfrm>
            <a:off x="3352680" y="76320"/>
            <a:ext cx="22860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感冒治症簡易圖表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(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三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_s1050"/>
          <p:cNvSpPr/>
          <p:nvPr/>
        </p:nvSpPr>
        <p:spPr>
          <a:xfrm>
            <a:off x="0" y="5791320"/>
            <a:ext cx="487692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註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1</a:t>
            </a:r>
            <a:r>
              <a:rPr b="1" lang="zh-TW" sz="18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：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鼻塞嚴重則另加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【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辛夷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蒼朮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石菖蒲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註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2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：女子月經期感冒一律使用</a:t>
            </a:r>
            <a:r>
              <a:rPr b="0" lang="zh-TW" sz="20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8" action="ppaction://hlinksldjump"/>
              </a:rPr>
              <a:t>小柴胡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註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3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：鼻塞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/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頭身痛 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無汗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口不渴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怕冷</a:t>
            </a:r>
            <a:r>
              <a:rPr b="1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四肢冰冷</a:t>
            </a:r>
            <a:r>
              <a:rPr b="0" lang="en-US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+</a:t>
            </a:r>
            <a:r>
              <a:rPr b="1" lang="zh-TW" sz="20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疲累→</a:t>
            </a:r>
            <a:r>
              <a:rPr b="0" lang="zh-TW" sz="20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9" action="ppaction://hlinksldjump"/>
              </a:rPr>
              <a:t>麻黃附子細辛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Organization Chart 56"/>
          <p:cNvGrpSpPr/>
          <p:nvPr/>
        </p:nvGrpSpPr>
        <p:grpSpPr>
          <a:xfrm>
            <a:off x="4726080" y="782640"/>
            <a:ext cx="4265280" cy="4779720"/>
            <a:chOff x="4726080" y="782640"/>
            <a:chExt cx="4265280" cy="4779720"/>
          </a:xfrm>
        </p:grpSpPr>
        <p:cxnSp>
          <p:nvCxnSpPr>
            <p:cNvPr id="185" name="_s3100"/>
            <p:cNvCxnSpPr>
              <a:stCxn id="186" idx="1"/>
              <a:endCxn id="187" idx="2"/>
            </p:cNvCxnSpPr>
            <p:nvPr/>
          </p:nvCxnSpPr>
          <p:spPr>
            <a:xfrm rot="10800000">
              <a:off x="7961760" y="2954160"/>
              <a:ext cx="146520" cy="869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101"/>
            <p:cNvCxnSpPr>
              <a:stCxn id="189" idx="3"/>
              <a:endCxn id="187" idx="2"/>
            </p:cNvCxnSpPr>
            <p:nvPr/>
          </p:nvCxnSpPr>
          <p:spPr>
            <a:xfrm flipV="1">
              <a:off x="7815960" y="2954160"/>
              <a:ext cx="146520" cy="869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102"/>
            <p:cNvCxnSpPr>
              <a:stCxn id="191" idx="1"/>
              <a:endCxn id="192" idx="2"/>
            </p:cNvCxnSpPr>
            <p:nvPr/>
          </p:nvCxnSpPr>
          <p:spPr>
            <a:xfrm rot="10800000">
              <a:off x="5751000" y="2954160"/>
              <a:ext cx="144720" cy="869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3103"/>
            <p:cNvCxnSpPr>
              <a:stCxn id="194" idx="3"/>
              <a:endCxn id="192" idx="2"/>
            </p:cNvCxnSpPr>
            <p:nvPr/>
          </p:nvCxnSpPr>
          <p:spPr>
            <a:xfrm flipV="1">
              <a:off x="5604120" y="2954160"/>
              <a:ext cx="147960" cy="869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3104"/>
            <p:cNvCxnSpPr>
              <a:stCxn id="196" idx="0"/>
              <a:endCxn id="186" idx="2"/>
            </p:cNvCxnSpPr>
            <p:nvPr/>
          </p:nvCxnSpPr>
          <p:spPr>
            <a:xfrm flipV="1">
              <a:off x="8550360" y="4256280"/>
              <a:ext cx="180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97" name="_s3105"/>
            <p:cNvCxnSpPr>
              <a:stCxn id="198" idx="0"/>
              <a:endCxn id="189" idx="2"/>
            </p:cNvCxnSpPr>
            <p:nvPr/>
          </p:nvCxnSpPr>
          <p:spPr>
            <a:xfrm flipV="1">
              <a:off x="7372080" y="4256280"/>
              <a:ext cx="180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199" name="_s3106"/>
            <p:cNvCxnSpPr>
              <a:stCxn id="200" idx="0"/>
              <a:endCxn id="194" idx="2"/>
            </p:cNvCxnSpPr>
            <p:nvPr/>
          </p:nvCxnSpPr>
          <p:spPr>
            <a:xfrm flipV="1">
              <a:off x="5164920" y="4256280"/>
              <a:ext cx="21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201" name="_s3107"/>
            <p:cNvCxnSpPr>
              <a:stCxn id="202" idx="0"/>
              <a:endCxn id="191" idx="2"/>
            </p:cNvCxnSpPr>
            <p:nvPr/>
          </p:nvCxnSpPr>
          <p:spPr>
            <a:xfrm flipV="1">
              <a:off x="6338520" y="4256280"/>
              <a:ext cx="21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203" name="_s3108"/>
            <p:cNvCxnSpPr>
              <a:stCxn id="187" idx="0"/>
              <a:endCxn id="204" idx="2"/>
            </p:cNvCxnSpPr>
            <p:nvPr/>
          </p:nvCxnSpPr>
          <p:spPr>
            <a:xfrm flipV="1" rot="16200000">
              <a:off x="7191720" y="1316880"/>
              <a:ext cx="435600" cy="1105920"/>
            </a:xfrm>
            <a:prstGeom prst="bentConnector3">
              <a:avLst>
                <a:gd name="adj1" fmla="val 262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109"/>
            <p:cNvCxnSpPr>
              <a:stCxn id="192" idx="0"/>
              <a:endCxn id="204" idx="2"/>
            </p:cNvCxnSpPr>
            <p:nvPr/>
          </p:nvCxnSpPr>
          <p:spPr>
            <a:xfrm flipH="1" flipV="1" rot="5400000">
              <a:off x="6086160" y="1317240"/>
              <a:ext cx="435600" cy="1105560"/>
            </a:xfrm>
            <a:prstGeom prst="bentConnector3">
              <a:avLst>
                <a:gd name="adj1" fmla="val 262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110"/>
            <p:cNvSpPr/>
            <p:nvPr/>
          </p:nvSpPr>
          <p:spPr>
            <a:xfrm>
              <a:off x="6424200" y="782640"/>
              <a:ext cx="867240" cy="870120"/>
            </a:xfrm>
            <a:custGeom>
              <a:avLst/>
              <a:gdLst>
                <a:gd name="textAreaLeft" fmla="*/ 42120 w 867240"/>
                <a:gd name="textAreaRight" fmla="*/ 825120 w 867240"/>
                <a:gd name="textAreaTop" fmla="*/ 42120 h 870120"/>
                <a:gd name="textAreaBottom" fmla="*/ 828000 h 87012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咳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3111"/>
            <p:cNvSpPr/>
            <p:nvPr/>
          </p:nvSpPr>
          <p:spPr>
            <a:xfrm>
              <a:off x="5336280" y="2088000"/>
              <a:ext cx="829440" cy="866520"/>
            </a:xfrm>
            <a:custGeom>
              <a:avLst/>
              <a:gdLst>
                <a:gd name="textAreaLeft" fmla="*/ 40320 w 829440"/>
                <a:gd name="textAreaRight" fmla="*/ 789120 w 829440"/>
                <a:gd name="textAreaTop" fmla="*/ 40320 h 866520"/>
                <a:gd name="textAreaBottom" fmla="*/ 826200 h 866520"/>
              </a:gdLst>
              <a:ahLst/>
              <a:rect l="textAreaLeft" t="textAreaTop" r="textAreaRight" b="textAreaBottom"/>
              <a:pathLst>
                <a:path w="21600" h="22565">
                  <a:moveTo>
                    <a:pt x="3600" y="0"/>
                  </a:moveTo>
                  <a:arcTo wR="3600" hR="3600" stAng="16200000" swAng="-5400000"/>
                  <a:lnTo>
                    <a:pt x="0" y="18965"/>
                  </a:lnTo>
                  <a:arcTo wR="3600" hR="3600" stAng="10800000" swAng="-5400000"/>
                  <a:lnTo>
                    <a:pt x="18000" y="225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339933"/>
                  </a:solidFill>
                  <a:latin typeface="教育部標準楷書"/>
                  <a:ea typeface="教育部標準楷書"/>
                </a:rPr>
                <a:t>有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12"/>
            <p:cNvSpPr/>
            <p:nvPr/>
          </p:nvSpPr>
          <p:spPr>
            <a:xfrm>
              <a:off x="7548480" y="2088000"/>
              <a:ext cx="829080" cy="866520"/>
            </a:xfrm>
            <a:custGeom>
              <a:avLst/>
              <a:gdLst>
                <a:gd name="textAreaLeft" fmla="*/ 40320 w 829080"/>
                <a:gd name="textAreaRight" fmla="*/ 788760 w 829080"/>
                <a:gd name="textAreaTop" fmla="*/ 40320 h 866520"/>
                <a:gd name="textAreaBottom" fmla="*/ 826200 h 866520"/>
              </a:gdLst>
              <a:ahLst/>
              <a:rect l="textAreaLeft" t="textAreaTop" r="textAreaRight" b="textAreaBottom"/>
              <a:pathLst>
                <a:path w="21600" h="22575">
                  <a:moveTo>
                    <a:pt x="3600" y="0"/>
                  </a:moveTo>
                  <a:arcTo wR="3600" hR="3600" stAng="16200000" swAng="-5400000"/>
                  <a:lnTo>
                    <a:pt x="0" y="18975"/>
                  </a:lnTo>
                  <a:arcTo wR="3600" hR="3600" stAng="10800000" swAng="-5400000"/>
                  <a:lnTo>
                    <a:pt x="18000" y="225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339933"/>
                  </a:solidFill>
                  <a:latin typeface="教育部標準楷書"/>
                  <a:ea typeface="教育部標準楷書"/>
                </a:rPr>
                <a:t>無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113"/>
            <p:cNvSpPr/>
            <p:nvPr/>
          </p:nvSpPr>
          <p:spPr>
            <a:xfrm>
              <a:off x="5896080" y="3390120"/>
              <a:ext cx="884880" cy="86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不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3114"/>
            <p:cNvSpPr/>
            <p:nvPr/>
          </p:nvSpPr>
          <p:spPr>
            <a:xfrm>
              <a:off x="4727160" y="3390120"/>
              <a:ext cx="876960" cy="86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15"/>
            <p:cNvSpPr/>
            <p:nvPr/>
          </p:nvSpPr>
          <p:spPr>
            <a:xfrm>
              <a:off x="6926760" y="3390120"/>
              <a:ext cx="889560" cy="86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116"/>
            <p:cNvSpPr/>
            <p:nvPr/>
          </p:nvSpPr>
          <p:spPr>
            <a:xfrm>
              <a:off x="8108280" y="3390120"/>
              <a:ext cx="883080" cy="86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怕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5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口不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3117"/>
            <p:cNvSpPr/>
            <p:nvPr/>
          </p:nvSpPr>
          <p:spPr>
            <a:xfrm>
              <a:off x="5896080" y="4692600"/>
              <a:ext cx="884880" cy="86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0" action="ppaction://hlinksldjump"/>
                </a:rPr>
                <a:t>桂枝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118"/>
            <p:cNvSpPr/>
            <p:nvPr/>
          </p:nvSpPr>
          <p:spPr>
            <a:xfrm>
              <a:off x="4726080" y="4692600"/>
              <a:ext cx="878400" cy="86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1" action="ppaction://hlinksldjump"/>
                </a:rPr>
                <a:t>桂枝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2" action="ppaction://hlinksldjump"/>
                </a:rPr>
                <a:t>+</a:t>
              </a: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3" action="ppaction://hlinksldjump"/>
                </a:rPr>
                <a:t>葛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3119"/>
            <p:cNvSpPr/>
            <p:nvPr/>
          </p:nvSpPr>
          <p:spPr>
            <a:xfrm>
              <a:off x="6926760" y="4692600"/>
              <a:ext cx="889560" cy="86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4" action="ppaction://hlinksldjump"/>
                </a:rPr>
                <a:t>葛根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3120"/>
            <p:cNvSpPr/>
            <p:nvPr/>
          </p:nvSpPr>
          <p:spPr>
            <a:xfrm>
              <a:off x="8108280" y="4692600"/>
              <a:ext cx="883080" cy="86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100" spc="-1" strike="noStrike" u="sng">
                  <a:solidFill>
                    <a:srgbClr val="009999"/>
                  </a:solidFill>
                  <a:uFillTx/>
                  <a:latin typeface="教育部標準楷書"/>
                  <a:ea typeface="教育部標準楷書"/>
                  <a:hlinkClick r:id="rId15" action="ppaction://hlinksldjump"/>
                </a:rPr>
                <a:t>麻黃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050"/>
            <p:cNvSpPr/>
            <p:nvPr/>
          </p:nvSpPr>
          <p:spPr>
            <a:xfrm>
              <a:off x="5988240" y="782640"/>
              <a:ext cx="1771200" cy="87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ff0000"/>
                  </a:solidFill>
                  <a:latin typeface="教育部標準楷書"/>
                  <a:ea typeface="教育部標準楷書"/>
                </a:rPr>
                <a:t>頭、身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(</a:t>
              </a:r>
              <a:r>
                <a:rPr b="1" lang="zh-TW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可兼有發燒</a:t>
              </a:r>
              <a:r>
                <a:rPr b="1" lang="en-US" sz="2000" spc="-1" strike="noStrike">
                  <a:solidFill>
                    <a:srgbClr val="3333ff"/>
                  </a:solidFill>
                  <a:latin typeface="教育部標準楷書"/>
                  <a:ea typeface="教育部標準楷書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常見問題與說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052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首先感謝倪海廈恩師無私的教導、張孟浩的精心制作，及葉昭呈完美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s show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，才有此圖表的誕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讀表的方法：請由最上方之有汗無汗開始讀起，再依症狀分支往下走到對應方劑為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服用科學中藥的劑量，及方法為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每日三次，早中晚餐飯前，空腹，溫開水送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若病情較重，可于睡前加服一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此劑量僅供參考， 請依體格及醫師建議，酌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量加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服用多久，仍然無效時應該停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若對證， 多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小時以內，病情改善， 如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續服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日仍然無效時，應該轉方或停服，並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診所就醫，避免延誤病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浸泡膽巴或硫磺薰製</a:t>
            </a:r>
            <a:r>
              <a:rPr b="1" lang="en-US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氧化硫</a:t>
            </a:r>
            <a:r>
              <a:rPr b="1" lang="en-US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r>
              <a:rPr b="1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的中藥</a:t>
            </a:r>
            <a:r>
              <a:rPr b="1" lang="en-US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1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與防腐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一樣</a:t>
            </a:r>
            <a:r>
              <a:rPr b="1" lang="en-US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1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都會嚴重損傷肝腎</a:t>
            </a:r>
            <a:r>
              <a:rPr b="1" lang="en-US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1" lang="zh-TW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請務必慎選葯材</a:t>
            </a:r>
            <a:r>
              <a:rPr b="1" lang="en-US" sz="1400" spc="-1" strike="noStrike">
                <a:solidFill>
                  <a:srgbClr val="ff0000"/>
                </a:solidFill>
                <a:latin typeface="標楷體"/>
                <a:ea typeface="標楷體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0552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服葯後， 退燒，不再惡寒身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表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， 但有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遺症，如咳嗽不癒，聲啞怎麼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若是咳嗽不癒，表示此人平時即多有痰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體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寒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白痰，則用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苓甘姜味辛夏仁湯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熱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黃痰，則用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千金葦莖湯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TW" sz="1200" spc="-1" strike="noStrike">
                <a:solidFill>
                  <a:srgbClr val="3333ff"/>
                </a:solidFill>
                <a:latin typeface="Arial"/>
              </a:rPr>
              <a:t>蘆根、 冬瓜子、桃仁、苡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津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聲啞，或乾咳無痰， 表示此人平時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　　晚睡， 貪食炸烤食物，或服抗生素，傷到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　　液，則用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麥門冬湯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病症看起來像似表寒桂枝湯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有汗，惡寒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口不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又有鼻流黃涕看似有熱證的麻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甘石湯證該如何選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恭喜， 您已進入合方運用的殿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請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TW" sz="1200" spc="-1" strike="noStrike">
                <a:solidFill>
                  <a:srgbClr val="ff0000"/>
                </a:solidFill>
                <a:latin typeface="Arial"/>
              </a:rPr>
              <a:t>桂枝湯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0" lang="zh-TW" sz="1200" spc="-1" strike="noStrike">
                <a:solidFill>
                  <a:srgbClr val="ff0000"/>
                </a:solidFill>
                <a:latin typeface="Arial"/>
              </a:rPr>
              <a:t>麻杏甘石湯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但總劑量不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月經期間感冒喉痛，可否用</a:t>
            </a:r>
            <a:r>
              <a:rPr b="0" lang="zh-TW" sz="1200" spc="-1" strike="noStrike">
                <a:solidFill>
                  <a:srgbClr val="ff0000"/>
                </a:solidFill>
                <a:latin typeface="Arial"/>
              </a:rPr>
              <a:t>小柴胡湯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合</a:t>
            </a:r>
            <a:r>
              <a:rPr b="0" lang="zh-TW" sz="1200" spc="-1" strike="noStrike">
                <a:solidFill>
                  <a:srgbClr val="ff0000"/>
                </a:solidFill>
                <a:latin typeface="Arial"/>
              </a:rPr>
              <a:t>葛根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正確答案， 但小柴胡湯量要大一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嚴重之喉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如扁桃腺化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可再加</a:t>
            </a:r>
            <a:r>
              <a:rPr b="0" lang="zh-TW" sz="1200" spc="-1" strike="noStrike">
                <a:solidFill>
                  <a:srgbClr val="3333ff"/>
                </a:solidFill>
                <a:latin typeface="Arial"/>
              </a:rPr>
              <a:t>桔梗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0" lang="zh-TW" sz="1200" spc="-1" strike="noStrike">
                <a:solidFill>
                  <a:srgbClr val="3333ff"/>
                </a:solidFill>
                <a:latin typeface="Arial"/>
              </a:rPr>
              <a:t>玄參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0" lang="zh-TW" sz="1200" spc="-1" strike="noStrike">
                <a:solidFill>
                  <a:srgbClr val="3333ff"/>
                </a:solidFill>
                <a:latin typeface="Arial"/>
              </a:rPr>
              <a:t>石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若服用水藥，各方之參考劑量及使用法請詳見後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　　　之投影片，實際使用量請依合格中醫師處方。小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　　　服用量依照與成人體重之比例。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斤成人需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　　　一碗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斤小孩則喝半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zh-TW" sz="900" spc="-1" strike="noStrike">
                <a:solidFill>
                  <a:srgbClr val="000000"/>
                </a:solidFill>
                <a:latin typeface="Arial"/>
              </a:rPr>
              <a:t>張孟超敬筆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-20-201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43000" y="2895480"/>
          <a:ext cx="3124080" cy="1676520"/>
        </p:xfrm>
        <a:graphic>
          <a:graphicData uri="http://schemas.openxmlformats.org/drawingml/2006/table">
            <a:tbl>
              <a:tblPr/>
              <a:tblGrid>
                <a:gridCol w="1371600"/>
                <a:gridCol w="1752480"/>
              </a:tblGrid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歲以下幼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次劑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~0.5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~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次劑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~1.5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~6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次劑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~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~10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次劑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~14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次劑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歲以上成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次劑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桂枝湯</a:t>
            </a:r>
            <a:r>
              <a:rPr b="0" lang="en-US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桂枝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皮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白芍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zh-TW" sz="10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炙甘草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3"/>
              </a:rPr>
              <a:t>生薑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切片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4"/>
              </a:rPr>
              <a:t>大棗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擘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枚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桂枝湯加葛根：　　　桂枝湯再加入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葛根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用法同桂枝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桂枝湯加厚朴、杏仁：桂枝湯再加入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厚朴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、北杏仁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用法同桂枝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桂枝湯使用時機：</a:t>
            </a:r>
            <a:r>
              <a:rPr b="1" lang="zh-TW" sz="12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有汗，怕冷 ，頭痛，有點發燒，肌肉有些酸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桂枝湯煮法及注意事項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以上五味藥，用七碗水煮成三碗。每次溫服一碗。服完藥後再喝一碗熱稀飯，以幫助藥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喝完藥後以全身微微出汗為最佳。切記不可使病人流太多汗。 汗出後須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擦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乾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避免吹風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受涼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若微出汗後，病狀消失，則可以停藥，不用再服。若是兩小時後汗仍不出，可服第二碗；再不出汗，每一小時到一小時半再服一碗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…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餘此類推。半日內可喝完三碗。若是病情比較嚴重，可以早晚各服用一帖藥（共六碗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照顧者要在旁觀察病人病情的變化。若是病狀有改善，但仍未消除，可以繼續服用桂枝湯。或是汗一直不出，可以連續服用到兩、三帖藥都可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用桂枝湯者忌食：生冷、 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粘滑、肉麵、五辛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（辛辣）、酒、酪、臭惡等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5" action="ppaction://hlinksldjump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葛根湯</a:t>
            </a: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葛根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4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麻黃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節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3"/>
              </a:rPr>
              <a:t>生薑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切片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4"/>
              </a:rPr>
              <a:t>桂枝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皮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5"/>
              </a:rPr>
              <a:t>芍藥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9999"/>
                </a:solidFill>
                <a:latin typeface="教育部標準楷書"/>
                <a:ea typeface="教育部標準楷書"/>
              </a:rPr>
              <a:t>　　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炙甘草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1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6"/>
              </a:rPr>
              <a:t>大棗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枚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【注意】：有做過心臟手術的病人不可以用麻黃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請改用</a:t>
            </a:r>
            <a:r>
              <a:rPr b="1" lang="en-US" sz="12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荊芥五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2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防風三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2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浮萍三錢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來取代麻黃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葛根湯使用時機：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項強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頭痛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發熱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怕冷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無汗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喉嚨痛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葛根湯煮法及注意事項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以上七味藥，以水十碗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先煮麻黃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、葛根，等水量減少三碗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撈去浮在上層的白沫，再放入其他藥材，煮成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三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。去滓，每次溫服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一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喝完藥後以全身微微出汗為最佳。切記不可使病人流太多汗，汗出後須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擦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乾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避免吹風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受涼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和桂枝湯不同處是使用葛根湯時，</a:t>
            </a:r>
            <a:r>
              <a:rPr b="1" lang="zh-TW" sz="12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不需要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喝稀飯助藥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若微出汗後，病狀消失，則可以停藥，不用再服。若是兩小時後汗仍不出，可服第二碗；再不出汗，每一小時到一小時半再服一碗</a:t>
            </a:r>
            <a:r>
              <a:rPr b="0" lang="en-US" sz="12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…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餘此類推。半日內可喝完三碗。若是病情比較嚴重，可以早晚各服用一帖藥（共六碗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照顧者要在旁觀察病人病情的變化。若是病狀有改善，但仍未消除，可以繼續服用桂枝湯。或是汗一直不出，可以連續服用到兩、三帖藥都可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用葛根湯者忌食：生冷、 </a:t>
            </a:r>
            <a:r>
              <a:rPr b="0" lang="en-US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粘滑、肉麵、五辛</a:t>
            </a:r>
            <a:r>
              <a:rPr b="0" lang="zh-TW" sz="12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（辛辣）、酒、酪、臭惡等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7086600" y="60958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7" action="ppaction://hlinksldjump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麻黃湯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節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桂枝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皮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</a:rPr>
              <a:t>炙甘草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1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3"/>
              </a:rPr>
              <a:t>杏仁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皮尖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70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枚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【注意】：有做過心臟手術的病人不可以用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請改用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荊芥五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防風三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浮萍三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來取代麻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麻黃湯使用時機：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頭痛、 全身關節痛 、發</a:t>
            </a:r>
            <a:r>
              <a:rPr b="1" lang="zh-TW" sz="1400" spc="-1" strike="noStrike">
                <a:solidFill>
                  <a:srgbClr val="3333ff"/>
                </a:solidFill>
                <a:latin typeface="標楷體"/>
                <a:ea typeface="標楷體"/>
              </a:rPr>
              <a:t>高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燒 、無汗， </a:t>
            </a:r>
            <a:r>
              <a:rPr b="1" lang="zh-TW" sz="1400" spc="-1" strike="noStrike">
                <a:solidFill>
                  <a:srgbClr val="3333ff"/>
                </a:solidFill>
                <a:latin typeface="標楷體"/>
                <a:ea typeface="標楷體"/>
              </a:rPr>
              <a:t>非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常怕冷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麻黃湯煮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以上四味藥，以水九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先煮麻黃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等水量減少二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撈去浮在上層的白沫，再放入其他藥材，煮成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三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。去滓，每次溫服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一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。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汗出停後服。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和桂枝湯不同處是使用麻黃湯時，</a:t>
            </a:r>
            <a:r>
              <a:rPr b="1" lang="zh-TW" sz="1400" spc="-1" strike="noStrike">
                <a:solidFill>
                  <a:srgbClr val="cc3300"/>
                </a:solidFill>
                <a:latin typeface="教育部標準楷書"/>
                <a:ea typeface="教育部標準楷書"/>
              </a:rPr>
              <a:t>不需要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喝稀飯助藥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喝完藥後以全身微微出汗為最佳。切記不可使病人流太多汗。 汗出後須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擦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乾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,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避免吹風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受涼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服用麻黃湯者忌食：生冷、 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粘滑、肉麵、五辛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（辛辣）、酒、酪、臭惡等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4" action="ppaction://hlinksldjump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小柴胡湯</a:t>
            </a: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柴胡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半斤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黃芩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3"/>
              </a:rPr>
              <a:t>人參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4"/>
              </a:rPr>
              <a:t>半夏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半升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5"/>
              </a:rPr>
              <a:t>甘草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　　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6"/>
              </a:rPr>
              <a:t>生薑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切片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兩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7"/>
              </a:rPr>
              <a:t>大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枚打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小柴胡湯使用時機：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忽冷忽熱 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噁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心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標楷體"/>
                <a:ea typeface="標楷體"/>
              </a:rPr>
              <a:t>胸脅脹滿感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無食欲 </a:t>
            </a:r>
            <a:r>
              <a:rPr b="0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小柴胡湯煮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上述七味藥，以水十二碗，煮成六碗，去滓，再煎成三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，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每次溫服一碗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。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一天三次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8" action="ppaction://hlinksldjump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五苓散處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1"/>
              </a:rPr>
              <a:t>豬苓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 </a:t>
            </a:r>
            <a:r>
              <a:rPr b="0" lang="zh-TW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2"/>
              </a:rPr>
              <a:t>澤瀉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5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3"/>
              </a:rPr>
              <a:t>白朮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4"/>
              </a:rPr>
              <a:t>茯苓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3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華康標楷體"/>
                <a:ea typeface="教育部標準楷書"/>
              </a:rPr>
              <a:t> 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5"/>
              </a:rPr>
              <a:t>桂枝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去皮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克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(2</a:t>
            </a: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錢</a:t>
            </a:r>
            <a:r>
              <a:rPr b="0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    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五苓散使用時機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： 發燒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頭痛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口渴欲飲水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 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但一喝就吐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, 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或有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(</a:t>
            </a:r>
            <a:r>
              <a:rPr b="1" lang="zh-TW" sz="1400" spc="-1" strike="noStrike">
                <a:solidFill>
                  <a:srgbClr val="3333ff"/>
                </a:solidFill>
                <a:latin typeface="標楷體"/>
                <a:ea typeface="標楷體"/>
              </a:rPr>
              <a:t>拉肚子</a:t>
            </a:r>
            <a:r>
              <a:rPr b="1" lang="en-US" sz="1400" spc="-1" strike="noStrike">
                <a:solidFill>
                  <a:srgbClr val="3333ff"/>
                </a:solidFill>
                <a:latin typeface="標楷體"/>
                <a:ea typeface="標楷體"/>
              </a:rPr>
              <a:t>)</a:t>
            </a:r>
            <a:r>
              <a:rPr b="1" lang="zh-TW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水瀉</a:t>
            </a:r>
            <a:r>
              <a:rPr b="1" lang="en-US" sz="1400" spc="-1" strike="noStrike">
                <a:solidFill>
                  <a:srgbClr val="3333ff"/>
                </a:solidFill>
                <a:latin typeface="教育部標準楷書"/>
                <a:ea typeface="教育部標準楷書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※</a:t>
            </a:r>
            <a:r>
              <a:rPr b="1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五苓散使用法及注意事項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教育部標準楷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教育部標準楷書"/>
                <a:ea typeface="教育部標準楷書"/>
              </a:rPr>
              <a:t>將上述五味藥材打成粉末，一次吃一平湯匙，原方是用很稀的米湯配著服下，不習慣者可以用溫水送服，一天吃三次，吃完後多喝溫熱水，汗出則愈，還有小便也會增加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7086600" y="594360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9999"/>
                </a:solidFill>
                <a:uFillTx/>
                <a:latin typeface="教育部標準楷書"/>
                <a:ea typeface="教育部標準楷書"/>
                <a:hlinkClick r:id="rId6" action="ppaction://hlinksldjump"/>
              </a:rPr>
              <a:t>返回第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7:27:56Z</dcterms:created>
  <dc:creator>User</dc:creator>
  <dc:description/>
  <cp:keywords/>
  <dc:language>en-US</dc:language>
  <cp:lastModifiedBy>ccyeh</cp:lastModifiedBy>
  <dcterms:modified xsi:type="dcterms:W3CDTF">2010-02-22T20:49:13Z</dcterms:modified>
  <cp:revision>13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11033</vt:lpwstr>
  </property>
</Properties>
</file>