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glass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7A9-7ABB-4A02-967D-99B2BF3F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8E4-EA69-41E1-855F-7D81063C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CDC-859F-42E2-8CB8-FD5E9076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599-CC75-4EDB-BBD5-94923F5C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EE587-2FE8-4F9B-9214-50EFE3EF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46B91-3FA6-4D8B-AD66-90F7F56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C1BA5-2C31-402C-88EE-DAFA78D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247D-C4B4-4482-86E5-5D13F4E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308AE-EA54-41C2-914F-DB3CBBAC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68AAA-71B1-495F-90F3-D591CC5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F2C38-5ABA-4DC4-A820-186A744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6D5-C962-4167-ADD0-5E43720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32C4B-030E-4795-9E55-8CEF465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989F-297B-4CC8-8614-0D94F86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EDA0-F499-4B9E-A2F4-1BDFA70E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35F3B-22A6-4B7E-BADA-ADF74409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9961D-EFE0-4570-8185-1EB5E880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5C3-BAEB-4B97-BB0E-6ECA59DB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8AA-5C96-4DC3-B595-335BCCC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177-593D-4E51-A06C-DBF4ABA4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A72-94E5-4059-BD56-D3B4781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907-765A-49CC-96AA-1912F63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E94-2AD4-48AF-AF93-C2DDAC4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691-C9BA-4519-93E8-C5C85E52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C87-00DF-49F3-9CF5-4003CC9D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EF3-5825-4907-840F-10ACFE27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glas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glass.wav"/><Relationship Id="rId9" Type="http://schemas.openxmlformats.org/officeDocument/2006/relationships/audio" Target="../media/camera.wav"/><Relationship Id="rId10" Type="http://schemas.openxmlformats.org/officeDocument/2006/relationships/audio" Target="../media/glass.wav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966960"/>
            <a:ext cx="2133720" cy="2614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920" y="18284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RABBI EMPATIK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Dengan Berkomunikas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ara Efektif )</a:t>
            </a:r>
            <a:br>
              <a:rPr sz="2800"/>
            </a:br>
            <a:br>
              <a:rPr sz="4800"/>
            </a:b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19360" y="50292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bnu Kh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Leadership Tr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5053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1830600">
            <a:off x="1071360" y="3770280"/>
            <a:ext cx="159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nal Akh Ash-Shoodiq Labudda An-Yakunna Murobiyyan – </a:t>
            </a:r>
            <a:br>
              <a:rPr sz="5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asan Al-Banna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ANALISIS TERHADAP PESERTA MENTORING</a:t>
            </a: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juan Analis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getahui keadaan peserta mentoring baik secara Psikologis, Demografis, dan Sosiologis sebelum penyampaian ma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LOG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ta melakukan prediksi terhadap hal yang kita dengar,lihat, rasakan dan perhati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ta mampu menyampaikan materi yang sesuai dengan kebutuhan peserta mentoring. Karena mereka akan menilai materi yang akan kita sampaikan berdasarkan apa yang telah mereka ketahui dan yakini sebelumn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kukan peserta mentoring sebagai pusat perhatian kita, untuk mengetahui pandangan peserta mentoring terhadap tema pembicaraan, pembicara dan lingkungan tempat ac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Demography Analysi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n cara mengetahui informasi tentang usia, latar belakang keluarga, kebiasaan. Dan lainn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nfaatkan informasi tersebut untuk digunakan sebagai model dalam penokohan atas materi yang kita sampai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Sosiology Analysi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n cara mengetahui daerah asal dari masing-masing peserta mentor, adat istiadat yang berlaku, kultur dan budaya keseharian, d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nfaatkan informasi tersebut untuk digunakan menciptakan metode yang tepat dalam penyampaian materi keisla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Empathic Communication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JADI TELADAN DALAM INTEG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DILAH PEMELIHARA YANG B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DILAH PENDENGAR YANG B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adan Dalam Integr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itas adalah dalam pekerjaan dari dalam b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atlah komitmen untuk tetap jujur, dapat dipercaya, dan memegang rah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uskan bahwa anda tidak tergant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f dengan hal-hal sep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iliki pemahaman diri dan pemikiran yang posi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Menjadi Pemelihara </a:t>
            </a:r>
            <a:br>
              <a:rPr sz="3200"/>
            </a:b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Yang baik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nya kasih sa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ah gairah mer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culnya sikap respek, yang disebabkan oleh tsaqofah yang luas d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 rasa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 pengak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kan dukungan dan dorongan dengan fokus pada kekuatan pes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iptany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 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af"/>
                </a:solidFill>
                <a:latin typeface="Arial"/>
              </a:rPr>
              <a:t>Menjadi Pendengar Aktif</a:t>
            </a:r>
            <a:endParaRPr b="0" lang="en-US" sz="36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ngar untuk memahami bukan hanya untuk persiapan menjaw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sungguh-sungguh mendengar, tidak melakukan aktivitas yang mengganggu lawan bi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tikan tanda komunikasi no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hami masalah dari pandang lawan bi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af"/>
                </a:solidFill>
                <a:latin typeface="Arial"/>
              </a:rPr>
              <a:t>Teknik Penyampaian Materi</a:t>
            </a:r>
            <a:endParaRPr b="0" lang="en-US" sz="36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Dasar Teknik Penyampaian Mat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Efek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tan terbatas/ tanpa catatan. Untuk menghindar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ya yang membosa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gunaan suara dan kecepatan berbicara yang te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nya kontak 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k/ bahasa Tub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t Bantu Penyampa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angka ma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171520" cy="217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Yang harus dihindari pada saat penyampaian materi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hon maaf diawal penyampaian materi (basa -b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ceritakan hal yang kurang perlu lebih ba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dak ada kontak 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si mentor tidak berhadapan dengan pes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ca kata demi kata dari layar/ papan tu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a Bicara/ Penyampaian datar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ot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pa persiapan, sehingga materi yang disampaikan asal-asalan, dangkal, tekstual, dan tidak mena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Proses Penyampaian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038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u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y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any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ita atau Sejarah dar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33760" y="2286000"/>
            <a:ext cx="38098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 s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seharusnya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akan disampa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mereka perlu 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r secara ur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us ada jembatan (ilustr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efinisi KOMUNIKASI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lah upaya yang sistematis untuk merumuskan secara tegas asas-asas penyampaian informasi serta pembentukan pendapat dan si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alah Proses mengubah perilaku orang lain sesuai dengan keinginan kit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lah proses penyampaian pesan melalui saluran tertentu kepada penerima pesan untuk suatu maksud terten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istraksi</a:t>
            </a:r>
            <a:br>
              <a:rPr sz="4400"/>
            </a:br>
            <a:r>
              <a:rPr b="0" lang="en-US" sz="2800" spc="-1" strike="noStrike">
                <a:solidFill>
                  <a:srgbClr val="ffffaf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Yang Mengalihkan Perhatian Peserta)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apan-ucapan tanpa a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ain-mainkan sesuatu yang dipe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g membunyikan sendi-se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ain-mainkan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ca mata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g membasahi bibir dengan li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s menelan l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k Sene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lu senyum disetiap akhir kata/ kali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u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ulang gagasan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utup dengan kalimat/ pesan yang bi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UJUAN KOMUNIKASI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Change ( Sik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inion Change ( Pendap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 Change( Perila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hange ( Sos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Cakupan “ Communication Skills”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AK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KESIMPULAN PARA AHLI KOMUNIKASI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% Diwakili oleh Tulisan atau kata-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% diwakili Suara ( Voice Managem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% Diwakili oleh Bahasa Tubuh                 ( Body Languag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hingga seorang komunikator yang baik mampu mengekspresikan apa yang disampaikan melalui bahasa tub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TEKNIK MENJADI KOMUNIKATOR YANG BAIK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at berbicara dengan terang dan j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an harus dapat dipahami dengan j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yamakan frekuensi/ membangun raport dengan peserta/obj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yang digunakan harus t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 yang dipakai mena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ibat yang ditimbulkan sesuai dengan keingi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MENGAPA KITA GAGAL BERKOMUNIKASI..?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33800" y="2459160"/>
          <a:ext cx="254484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459160"/>
                    <a:ext cx="254484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 txBox="1"/>
          <p:nvPr/>
        </p:nvSpPr>
        <p:spPr>
          <a:xfrm>
            <a:off x="5678640" y="2438280"/>
            <a:ext cx="270324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* Mental Block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* Nervous Tension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2284560" y="3778200"/>
            <a:ext cx="1131840" cy="1490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5400000">
            <a:off x="18000" y="3864600"/>
            <a:ext cx="297792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GAGALA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ah Diri atau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ut Salah Bi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ut Tampak Kony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k nafas – dalam  ( beberapa kali )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ukan persiapan yang baik dan latihan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ver Antisipate Failure..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Faktor Penyebabnya …?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Arial"/>
              </a:rPr>
              <a:t>MENJADI MURABBI EMPATIK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Orang Tua saat dibutuhkan memberi rasa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Guru saat dibutuhkan ilm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kakak saat dibutuhkan untuk konsul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teman saat dibutuhkan dalam bercanda dan berb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pemimpin saat dibutuhkan keputusan dan perintah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Rekan Kerja dalam amal jama’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4:01:28Z</dcterms:created>
  <dc:creator>IBNU KHAJAR</dc:creator>
  <dc:description/>
  <dc:language>en-US</dc:language>
  <cp:lastModifiedBy>Mr. Slamet</cp:lastModifiedBy>
  <dcterms:modified xsi:type="dcterms:W3CDTF">2005-10-25T13:07:36Z</dcterms:modified>
  <cp:revision>23</cp:revision>
  <dc:subject/>
  <dc:title>KOMUNIKASI EMPATIK DAN TEKNIK PENYAMPAIAN MATERI MENTORING  YANG EFEKTIF</dc:title>
</cp:coreProperties>
</file>