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glass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443-C507-4DD2-9745-E500B4F3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CF9-D804-47B4-8497-FBD23ADE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D46-0533-44C5-8CC6-76E54D0B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267-D75B-4A86-B357-2D9261A7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7400F-C9E3-468E-A3C5-1EEC61BD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2CDBD-1FDD-4D09-A580-1F2C7042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6F9E4-217D-462F-B358-563599C5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D95EA-7A2E-408C-9480-D4F8CE0E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ED194-D720-4A61-9081-B9890B29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0A09F-0140-4352-AD40-364494C1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0D7B8-FB10-45C6-9E36-1F47FA5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F7A-B5B1-478D-A720-CF9AC4D3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A7A81-EB9A-4E09-8E7A-FA3F502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CFC90-07BD-419F-9D3D-971BA1BC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38D99-EBCD-4337-9640-4AC7BA06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3A10B-B39A-4BDA-BBB8-EB6E1201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1CC1C-0862-4F12-99CF-747CC541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D45-914A-45AB-B799-27BDFCDD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596-B881-4A8C-98FD-DABED5A4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680-8CC2-45DE-8538-50020D47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475-ADDE-4C0C-950E-BF5B0BC7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68C-94FB-41CB-B6DD-742A57A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DD0-7AD9-44B5-9540-935AA2BC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D60-4E4C-4DC5-BC62-EA9E7AE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F367-F5A5-45E0-A163-A92B0A456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BF1-06B7-4B25-9E52-26FC52DEB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glas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glass.wav"/><Relationship Id="rId9" Type="http://schemas.openxmlformats.org/officeDocument/2006/relationships/audio" Target="../media/camera.wav"/><Relationship Id="rId10" Type="http://schemas.openxmlformats.org/officeDocument/2006/relationships/audio" Target="../media/glass.wav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966960"/>
            <a:ext cx="2133720" cy="2614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920" y="18284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RABBI EMPATIK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Dengan Berkomunikasi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ara Efektif )</a:t>
            </a:r>
            <a:br>
              <a:rPr sz="2800"/>
            </a:br>
            <a:br>
              <a:rPr sz="4800"/>
            </a:br>
            <a:endParaRPr b="0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419360" y="502920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bnu Kh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Leadership Tr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5053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1830600">
            <a:off x="1071360" y="3770280"/>
            <a:ext cx="159696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nal Akh Ash-Shoodiq Labudda An-Yakunna Murobiyyan – </a:t>
            </a:r>
            <a:br>
              <a:rPr sz="5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asan Al-Banna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ANALISIS TERHADAP PESERTA MENTORING</a:t>
            </a:r>
            <a:endParaRPr b="0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juan Analis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getahui keadaan peserta mentoring baik secara Psikologis, Demografis, dan Sosiologis sebelum penyampaian ma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YCHOLOG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ta melakukan prediksi terhadap hal yang kita dengar,lihat, rasakan dan perhatik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ta mampu menyampaikan materi yang sesuai dengan kebutuhan peserta mentoring. Karena mereka akan menilai materi yang akan kita sampaikan berdasarkan apa yang telah mereka ketahui dan yakini sebelumn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kukan peserta mentoring sebagai pusat perhatian kita, untuk mengetahui pandangan peserta mentoring terhadap tema pembicaraan, pembicara dan lingkungan tempat ac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af"/>
                </a:solidFill>
                <a:latin typeface="Arial"/>
              </a:rPr>
              <a:t>Demography Analysi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gan cara mengetahui informasi tentang usia, latar belakang keluarga, kebiasaan. Dan lainn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anfaatkan informasi tersebut untuk digunakan sebagai model dalam penokohan atas materi yang kita sampai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af"/>
                </a:solidFill>
                <a:latin typeface="Arial"/>
              </a:rPr>
              <a:t>Sosiology Analysi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gan cara mengetahui daerah asal dari masing-masing peserta mentor, adat istiadat yang berlaku, kultur dan budaya keseharian, d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anfaatkan informasi tersebut untuk digunakan menciptakan metode yang tepat dalam penyampaian materi keisla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af"/>
                </a:solidFill>
                <a:latin typeface="Arial"/>
              </a:rPr>
              <a:t>Empathic Communication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JADI TELADAN DALAM INTEG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DILAH PEMELIHARA YANG BA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DILAH PENDENGAR YANG BA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adan Dalam Integr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ritas adalah dalam pekerjaan dari dalam b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atlah komitmen untuk tetap jujur, dapat dipercaya, dan memegang rah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uskan bahwa anda tidak tergant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f dengan hal-hal sep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iliki pemahaman diri dan pemikiran yang posit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af"/>
                </a:solidFill>
                <a:latin typeface="Arial"/>
              </a:rPr>
              <a:t>Menjadi Pemelihara </a:t>
            </a:r>
            <a:br>
              <a:rPr sz="3200"/>
            </a:br>
            <a:r>
              <a:rPr b="1" lang="en-US" sz="3200" spc="-1" strike="noStrike">
                <a:solidFill>
                  <a:srgbClr val="ffffaf"/>
                </a:solidFill>
                <a:latin typeface="Arial"/>
              </a:rPr>
              <a:t>Yang baik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nya kasih sa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ilah gairah mer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culnya sikap respek, yang disebabkan oleh tsaqofah yang luas d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i rasa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i pengak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ikan dukungan dan dorongan dengan fokus pada kekuatan pes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iptany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 Dis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af"/>
                </a:solidFill>
                <a:latin typeface="Arial"/>
              </a:rPr>
              <a:t>Menjadi Pendengar Aktif</a:t>
            </a:r>
            <a:endParaRPr b="0" lang="en-US" sz="36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>
              <a:alpha val="9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ngar untuk memahami bukan hanya untuk persiapan menjaw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sungguh-sungguh mendengar, tidak melakukan aktivitas yang mengganggu lawan bic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tikan tanda komunikasi no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hami masalah dari pandang lawan bic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af"/>
                </a:solidFill>
                <a:latin typeface="Arial"/>
              </a:rPr>
              <a:t>Teknik Penyampaian Materi</a:t>
            </a:r>
            <a:endParaRPr b="0" lang="en-US" sz="36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Dasar Teknik Penyampaian Mat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g Efekti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tan terbatas/ tanpa catatan. Untuk menghindar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a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ya yang membosan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gunaan suara dan kecepatan berbicara yang tep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nya kontak m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ak/ bahasa Tub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t Bantu Penyampa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angka ma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6520" indent="-6094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2171520" cy="217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af"/>
                </a:solidFill>
                <a:latin typeface="Arial"/>
              </a:rPr>
              <a:t>Yang harus dihindari pada saat penyampaian materi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hon maaf diawal penyampaian materi (basa -ba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ceritakan hal yang kurang perlu lebih ba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dak ada kontak 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si mentor tidak berhadapan dengan pes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ca kata demi kata dari layar/ papan tu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da Bicara/ Penyampaian datar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not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pa persiapan, sehingga materi yang disampaikan asal-asalan, dangkal, tekstual, dan tidak menar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af"/>
                </a:solidFill>
                <a:latin typeface="Arial"/>
              </a:rPr>
              <a:t>Proses Penyampaian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038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uk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ny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any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ita atau Sejarah dari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33760" y="2286000"/>
            <a:ext cx="38098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a s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 yang seharusnya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 yang akan disampa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 yang mereka perlu t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r secara ur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us ada jembatan (ilustra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Definisi KOMUNIKASI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lah upaya yang sistematis untuk merumuskan secara tegas asas-asas penyampaian informasi serta pembentukan pendapat dan sik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alah Proses mengubah perilaku orang lain sesuai dengan keinginan kit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lah proses penyampaian pesan melalui saluran tertentu kepada penerima pesan untuk suatu maksud tertent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Distraksi</a:t>
            </a:r>
            <a:br>
              <a:rPr sz="4400"/>
            </a:br>
            <a:r>
              <a:rPr b="0" lang="en-US" sz="2800" spc="-1" strike="noStrike">
                <a:solidFill>
                  <a:srgbClr val="ffffaf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ffffaf"/>
                </a:solidFill>
                <a:latin typeface="Arial"/>
              </a:rPr>
              <a:t>Yang Mengalihkan Perhatian Peserta)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capan-ucapan tanpa a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ain-mainkan sesuatu yang dipe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ng membunyikan sendi-se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ain-mainkan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ca mata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ng membasahi bibir dengan li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as menelan l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lek Sene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alu senyum disetiap akhir kata/ kali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u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ulang gagasan U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utup dengan kalimat/ pesan yang bij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UJUAN KOMUNIKASI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 Change ( Sik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inion Change ( Pendap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 Change( Perila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Change ( Sos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Cakupan “ Communication Skills”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AK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EN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KESIMPULAN PARA AHLI KOMUNIKASI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% Diwakili oleh Tulisan atau kata-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% diwakili Suara ( Voice Managemen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% Diwakili oleh Bahasa Tubuh                 ( Body Languag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hingga seorang komunikator yang baik mampu mengekspresikan apa yang disampaikan melalui bahasa tubu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TEKNIK MENJADI KOMUNIKATOR YANG BAIK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at berbicara dengan terang dan j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an harus dapat dipahami dengan j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yamakan frekuensi/ membangun raport dengan peserta/obj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yang digunakan harus te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e yang dipakai mena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ibat yang ditimbulkan sesuai dengan keingi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MENGAPA KITA GAGAL BERKOMUNIKASI..?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33800" y="2459160"/>
          <a:ext cx="2544840" cy="32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2459160"/>
                    <a:ext cx="254484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 txBox="1"/>
          <p:nvPr/>
        </p:nvSpPr>
        <p:spPr>
          <a:xfrm>
            <a:off x="5678640" y="2438280"/>
            <a:ext cx="270324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* Mental Block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* Nervous Tension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2284560" y="3778200"/>
            <a:ext cx="1131840" cy="14907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 rot="5400000">
            <a:off x="18000" y="3864600"/>
            <a:ext cx="2977920" cy="42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EGAGALAN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dah Diri atau 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ut Salah Bi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ut Tampak Kony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k nafas – dalam  ( beberapa kali )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kukan persiapan yang baik dan latihan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ver Antisipate Failure..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Faktor Penyebabnya …?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af"/>
                </a:solidFill>
                <a:latin typeface="Arial"/>
              </a:rPr>
              <a:t>MENJADI MURABBI EMPATIK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Orang Tua saat dibutuhkan memberi rasa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Guru saat dibutuhkan ilm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kakak saat dibutuhkan untuk konsul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teman saat dibutuhkan dalam bercanda dan berb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pemimpin saat dibutuhkan keputusan dan perintah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Rekan Kerja dalam amal jama’i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4:01:28Z</dcterms:created>
  <dc:creator>IBNU KHAJAR</dc:creator>
  <dc:description/>
  <dc:language>en-US</dc:language>
  <cp:lastModifiedBy>Mr. Slamet</cp:lastModifiedBy>
  <dcterms:modified xsi:type="dcterms:W3CDTF">2005-10-25T13:07:36Z</dcterms:modified>
  <cp:revision>23</cp:revision>
  <dc:subject/>
  <dc:title>KOMUNIKASI EMPATIK DAN TEKNIK PENYAMPAIAN MATERI MENTORING  YANG EFEKTIF</dc:title>
</cp:coreProperties>
</file>