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313-3DA1-4309-8DBC-228BD8BD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65D-4CA6-40D4-A78F-7EA223D6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CCA-27A5-421B-9FEF-BBCFB60B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260-108E-4897-BE8F-658606B4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127-F158-4C8C-B88E-05774776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B4F-1980-437F-AF8F-670DB3BB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A33-D7EF-4C72-B719-C1DC0FC4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669-8D2B-4921-8BD5-FBA4BBEA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EE84-99FC-4F79-A264-3E0B866B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B30-E452-4F23-8651-76800613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20C-4B5F-4177-B42A-280F1B80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E82-F165-44C8-9E14-62664838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0D4D-4202-4A38-B77B-2803A4876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66680" y="762120"/>
            <a:ext cx="69343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Eras Bold ITC"/>
              </a:rPr>
              <a:t>Kid.Ag. 8:3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Eras Bold ITC"/>
              </a:rPr>
              <a:t>relasi nya di hidup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Eras Bold ITC"/>
              </a:rPr>
              <a:t>Yabes 1Taw.4:9-10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20:00:00Z</dcterms:created>
  <dc:creator>Personal</dc:creator>
  <dc:description/>
  <dc:language>en-US</dc:language>
  <cp:lastModifiedBy>Grace Wijaya</cp:lastModifiedBy>
  <dcterms:modified xsi:type="dcterms:W3CDTF">2013-02-10T17:20:25Z</dcterms:modified>
  <cp:revision>26</cp:revision>
  <dc:subject/>
  <dc:title>Slide 1</dc:title>
</cp:coreProperties>
</file>