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802-61D1-42D7-BCCC-4BC9650B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829-5734-40E0-84C9-04217565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281-B094-429A-8A8B-677980F8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8E7-286F-4F8C-9B19-2D14D961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C15-B6D0-4642-A89D-C0694A21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42E-2163-40FA-8E43-7DAD80E3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A44-AA45-4051-A219-6DA24A84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DB5-3C0C-454F-912A-278B47FE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768-D9E2-44A5-89E0-6D783EFC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39F-F6AA-4193-91D7-5311E97D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A8D-C591-4757-A65B-71C8DB60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931-389B-47D8-9275-5241231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F600-75FA-44D0-B3AA-5B277CE49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66680" y="762120"/>
            <a:ext cx="6934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Kid.Ag. 8:3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relasi nya di hidup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Yabes 1Taw.4:9-10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20:00:00Z</dcterms:created>
  <dc:creator>Personal</dc:creator>
  <dc:description/>
  <dc:language>en-US</dc:language>
  <cp:lastModifiedBy>Grace Wijaya</cp:lastModifiedBy>
  <dcterms:modified xsi:type="dcterms:W3CDTF">2013-02-10T17:20:25Z</dcterms:modified>
  <cp:revision>26</cp:revision>
  <dc:subject/>
  <dc:title>Slide 1</dc:title>
</cp:coreProperties>
</file>